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8302"/>
        <c:axId val="30054156"/>
      </c:barChart>
      <c:catAx>
        <c:axId val="1948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54156"/>
        <c:crosses val="autoZero"/>
        <c:auto val="1"/>
        <c:lblAlgn val="ctr"/>
        <c:lblOffset val="100"/>
        <c:noMultiLvlLbl val="0"/>
      </c:catAx>
      <c:valAx>
        <c:axId val="30054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8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64D-0BFA-48B8-AE38-903A85DE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10C-BF47-40C7-A8AD-FE7FFC75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F1D-B3F9-402A-870E-BA9B643C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EBF-FA52-4365-956D-4D53E170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4994-4811-4D73-8123-C30E0CCD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ED2-34A6-4F97-A070-AD7C2277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578-AB86-4C47-8AA9-02A916BB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C4C-4482-4461-93D0-F3A140BA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3173-B392-4775-9CA3-9B462D96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D14-0B0C-42D2-B4AE-9BF7F94D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CA5-325C-44AA-9CAE-16535966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86A-F3D2-48F9-A749-B9D3721C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B1DCB-CD14-4E83-995B-FB39680879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