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333662"/>
        <c:axId val="41433553"/>
      </c:barChart>
      <c:catAx>
        <c:axId val="423336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33553"/>
        <c:crosses val="autoZero"/>
        <c:auto val="1"/>
        <c:lblAlgn val="ctr"/>
        <c:lblOffset val="100"/>
        <c:noMultiLvlLbl val="0"/>
      </c:catAx>
      <c:valAx>
        <c:axId val="414335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336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0FB2-6359-42E5-8317-AE57485B6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928C-3168-41BE-9C42-641BF9BC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68D4-0853-47C3-8D03-F9FE42716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0850-A2E2-408A-8107-69A88E360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5955-E06C-4E5A-B021-DE546B94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CC0D-3589-4985-9A65-0286A200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5D02-E412-49AA-B7E0-5CFB0B26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DA9C-170C-45FE-9829-079F53BA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7362-A56C-4910-B65F-9B7744FF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F3C4-BB1A-436D-9A11-45BE521B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041E-E595-4797-886A-6C9C2331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8076-4B1A-4D30-AF88-AA18D3AB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CE3ED-409D-4E33-9212-00969D0CC7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