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14007"/>
        <c:axId val="29282044"/>
      </c:barChart>
      <c:catAx>
        <c:axId val="55514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82044"/>
        <c:crosses val="autoZero"/>
        <c:auto val="1"/>
        <c:lblAlgn val="ctr"/>
        <c:lblOffset val="100"/>
        <c:noMultiLvlLbl val="0"/>
      </c:catAx>
      <c:valAx>
        <c:axId val="29282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14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908-99B3-45FB-85C0-E7F51FDE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321-C5E2-47B2-BF75-04B57B7F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2A3-9BEF-45A5-A6F7-5E394A7B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1D9-FD4D-45A8-BE11-315F0D2C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782-106B-4180-B869-1BB5D080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D6A-2756-4CBA-A8B2-022AB4B2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81A-F154-47A9-AC06-6E5672FC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992-E6B7-4BAA-BED6-903B38DB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21F-99A6-458B-BAE4-FCE36BAD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54C-A15F-41CE-9015-09D68585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975-5E2E-4B90-AAAB-02359C93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5D9-97FB-4D88-A773-23BB4B64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2E551-A376-4960-8BDA-F1A6ED6CD7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