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21909"/>
        <c:axId val="93250370"/>
      </c:barChart>
      <c:catAx>
        <c:axId val="43521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50370"/>
        <c:crosses val="autoZero"/>
        <c:auto val="1"/>
        <c:lblAlgn val="ctr"/>
        <c:lblOffset val="100"/>
        <c:noMultiLvlLbl val="0"/>
      </c:catAx>
      <c:valAx>
        <c:axId val="93250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21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67A-C2A6-466C-B4A0-F1A5BBA7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D91-4366-4A48-8DF5-BED3974B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830-3ADB-498F-9873-9A83F76F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814B-6761-487F-974E-7EC14D6D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D71-40AD-470D-8064-1164B8AA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4823-457B-4209-A69B-53BDADF9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5F2-2445-493B-BADF-E34E887F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66D-ADDB-467E-9EFC-439AF466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B09-3CCA-477C-90E4-A5AAFCE0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6CA-3C40-4BD3-A8D3-2EE63BD7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2B1-70DF-41DB-906B-6ABDB161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A5C-68E3-4A09-A4BF-A042AE7F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69EEC-F83E-4BD7-94B2-2BCBF43B03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