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92273"/>
        <c:axId val="26881589"/>
      </c:barChart>
      <c:catAx>
        <c:axId val="72792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81589"/>
        <c:crosses val="autoZero"/>
        <c:auto val="1"/>
        <c:lblAlgn val="ctr"/>
        <c:lblOffset val="100"/>
        <c:noMultiLvlLbl val="0"/>
      </c:catAx>
      <c:valAx>
        <c:axId val="26881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92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60F-5DF8-4895-A556-422EE913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EFB-EF98-475F-9050-86CB607C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AF0-5B3A-43C0-8F82-84E3611E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20A-2C7B-4980-AF2B-28C20A2D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83C-2D63-4271-B0C8-3DCC22FE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C0C-49AE-4D0F-89FB-D6253BF2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86F-C57F-4AF0-BC6F-6A0CC83E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7B9-1A17-4D26-BC59-1CD9BBAA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18C-D9D0-44F7-818A-08E7CDDE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905-18CF-4967-AB04-6E7C7B70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919-AA63-410D-8361-EC4466E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81B-B9D0-42C3-9FF4-056A9126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25A49-FC99-4699-A31B-E46F788AAD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