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13793"/>
        <c:axId val="85021113"/>
      </c:barChart>
      <c:catAx>
        <c:axId val="78713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21113"/>
        <c:crosses val="autoZero"/>
        <c:auto val="1"/>
        <c:lblAlgn val="ctr"/>
        <c:lblOffset val="100"/>
        <c:noMultiLvlLbl val="0"/>
      </c:catAx>
      <c:valAx>
        <c:axId val="85021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13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F37-34BF-43E5-A21E-AE46CA67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598-5C47-4AF4-9291-0159CB9B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65C-D44A-4563-85D0-1ACE9AE9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FE6-7E99-4DD9-8356-3A2D061A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4A0-A124-42F1-99FD-BC7908B8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A31-5D8A-48E9-AD9E-789BD0BE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291-CAAB-49F0-97EF-A641451F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D19-86AC-4C0A-B194-C10B0A06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F9A-B32D-45C5-B706-B24E6F66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33E-41D8-49B8-880E-678243F8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5EC-562C-42B1-974D-2BA748FC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D2A-7981-4A10-80EE-F18D180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40CB0-C89C-4DFA-B32C-DCB1F5D4F6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