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2337"/>
        <c:axId val="56476123"/>
      </c:barChart>
      <c:catAx>
        <c:axId val="2062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76123"/>
        <c:crosses val="autoZero"/>
        <c:auto val="1"/>
        <c:lblAlgn val="ctr"/>
        <c:lblOffset val="100"/>
        <c:noMultiLvlLbl val="0"/>
      </c:catAx>
      <c:valAx>
        <c:axId val="56476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2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726-6777-4470-9092-18241729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FFB-ED0C-4D1C-A11B-25E9D19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18F-352D-489A-8EE1-70674A5B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DE3-DAEF-4176-B120-00D372F4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ACE-9777-4196-9D73-41FE3998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D02-CAF8-4ABD-A8FE-BC2DC8ED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246-EEA8-4D02-9E01-F960D1EB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C13-AE26-4A46-AEB9-C7226792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654-AD64-4D10-8D11-0A0C66E2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3C2-EDFD-46B0-965B-309943AB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84E-7CCB-4526-B53C-70CDD58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3C5-83B3-4F69-8672-288C2A5C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7DB9F-34B4-4EF8-8465-D9FE33EE35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