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14981"/>
        <c:axId val="87386477"/>
      </c:barChart>
      <c:catAx>
        <c:axId val="20114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86477"/>
        <c:crosses val="autoZero"/>
        <c:auto val="1"/>
        <c:lblAlgn val="ctr"/>
        <c:lblOffset val="100"/>
        <c:noMultiLvlLbl val="0"/>
      </c:catAx>
      <c:valAx>
        <c:axId val="87386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14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630-59FE-45FD-B30C-2B79FF11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322C-D89F-471B-A9B8-8009FD99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6B49-CC81-411C-902F-7021C19E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E0A-5D36-49F5-9916-3FF9FCCC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996-D479-47D6-94EA-9FB5ABBC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345E-AC68-42C8-A7F3-9DF3B930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857-00CA-48A5-B88C-4F0B0484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4B5-F5C3-490D-9E26-4BF5B65D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6681-0B77-4A4F-BA8A-134E2933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094-10E7-4E70-8587-2B0A1CA5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F27C-921F-4C75-9C92-E8CB3CDA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C61-58B1-43C4-BEF3-F3E66ABD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4808B-F7CA-459F-BCE3-3B2CD928E5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