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11665"/>
        <c:axId val="97500719"/>
      </c:barChart>
      <c:catAx>
        <c:axId val="950116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00719"/>
        <c:crosses val="autoZero"/>
        <c:auto val="1"/>
        <c:lblAlgn val="ctr"/>
        <c:lblOffset val="100"/>
        <c:noMultiLvlLbl val="0"/>
      </c:catAx>
      <c:valAx>
        <c:axId val="97500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116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F62A-CD1B-4BF6-B15C-B8968FBC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7B73-867F-4E81-AFB9-DD52708AD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6276-0291-4517-A676-3A183405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F9DF-D371-4823-B411-B9A058C26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335D-BDEB-4C3C-8FB6-257E6B65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5F79-9024-47F7-90BB-EC36FAB5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14F4-6321-4CC1-BE1B-13658E8C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249-E365-4C8A-9B08-68F387A9E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6432-5931-435A-A88E-2DB5B2A5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262-E10B-4A88-940F-DA7161A1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F29C-EFA6-458C-B5EC-F82A63A0B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72A8-E21D-4C7F-979B-CF53A0F0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CDAD5E-F189-4758-877B-A942323572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