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14139"/>
        <c:axId val="6933695"/>
      </c:barChart>
      <c:catAx>
        <c:axId val="18114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3695"/>
        <c:crosses val="autoZero"/>
        <c:auto val="1"/>
        <c:lblAlgn val="ctr"/>
        <c:lblOffset val="100"/>
        <c:noMultiLvlLbl val="0"/>
      </c:catAx>
      <c:valAx>
        <c:axId val="6933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14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8E8D-4216-46A3-8A2E-EB7D49CB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EE0E-0799-4869-9C50-272AD0A3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6D5B-2199-49BC-A0EF-5495C2A6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932E-B9A0-48D7-9FC0-5E67F570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43F-CE4A-4BB2-BDD5-94E1242C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431E-98D9-450A-9432-C57CC613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936B-5F0F-4A1F-986F-61E6065E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3DF-831A-4C16-8319-86C3A277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9E9-2000-4DEC-8A2A-7830E67A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EB2-DB14-4411-95CE-A9A8CEE0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3A61-6926-4C82-8613-7E98C5A6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F97-E008-4390-848A-790E6C1C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11E3F-3FD7-482B-8FF1-4F1C46821C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