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94920"/>
        <c:axId val="67709592"/>
      </c:barChart>
      <c:catAx>
        <c:axId val="66694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09592"/>
        <c:crosses val="autoZero"/>
        <c:auto val="1"/>
        <c:lblAlgn val="ctr"/>
        <c:lblOffset val="100"/>
        <c:noMultiLvlLbl val="0"/>
      </c:catAx>
      <c:valAx>
        <c:axId val="67709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94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BC7-0BD6-4FCE-8482-0EE279D0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766-8670-4AB3-84E7-BC79BE65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3FC-2959-43F7-BB31-F5B8AED5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D72-9C33-4B00-9BE7-4B44A85C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885-D9A3-4348-B09C-109F38FB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98A-BC90-4979-86CE-F78BB5E2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C6C-F46C-48F4-AC20-B4EF6438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338-450D-4209-AD35-11D1705E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7FB-72EB-4911-92D9-E86C8940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9F3-26DD-416E-80E4-E86C7591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DAE-943B-4AAC-B19F-09E9F209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36A-A6CC-4D4D-8345-E189054A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750F1-56B3-4C9B-95A6-22E4DD5EA5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