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9898"/>
        <c:axId val="598809"/>
      </c:barChart>
      <c:catAx>
        <c:axId val="9179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09"/>
        <c:crosses val="autoZero"/>
        <c:auto val="1"/>
        <c:lblAlgn val="ctr"/>
        <c:lblOffset val="100"/>
        <c:noMultiLvlLbl val="0"/>
      </c:catAx>
      <c:valAx>
        <c:axId val="598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9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2FA-504E-43F9-BFA9-96EF8F19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7F8-A230-43D0-8081-FBBA630D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028-6F5A-4D70-85F8-193A33A3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420-F93A-4F48-9ED9-5C7092F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882-2960-4307-806B-E2CA475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A38-FC74-4AC2-849E-96030F3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CC2-7EB1-436D-AD2F-F4C60519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81B-4043-4CB9-993F-50200707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3A4-16EB-4668-83C8-C59D6683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570-48EA-4AB2-8D2D-030870FF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A2B-6D30-4E1F-A41B-42E83A48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B41-65A6-4C74-BD27-7A6EBAB0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6D0F3-FCAE-4E1F-902B-6AE1844B5C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