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64439"/>
        <c:axId val="5521376"/>
      </c:barChart>
      <c:catAx>
        <c:axId val="539644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1376"/>
        <c:crosses val="autoZero"/>
        <c:auto val="1"/>
        <c:lblAlgn val="ctr"/>
        <c:lblOffset val="100"/>
        <c:noMultiLvlLbl val="0"/>
      </c:catAx>
      <c:valAx>
        <c:axId val="5521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644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692B-F94B-483E-85EA-DA01DB8E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518-3BCE-42C1-9A12-ABC02F6F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EF1-101B-4910-9093-9C2BB449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ACD-EE5A-43BA-8396-80B85BBD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3269-68F6-4BF4-AF83-8156BE3A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206-AC9D-4999-91CF-E0C6D170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08AE-9F28-4AE6-82B0-A1A7CD4E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C6C-CE31-48C4-8C01-72D07EBB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DABC-6633-433A-8C55-93DA5AA6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93A-B722-4619-933E-C1D76B03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C0DA-C41B-43BC-8F15-68A942AA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57C-1017-4690-8FD2-AD21276C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67DDA-2C6E-441D-8060-4CCE44B393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