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9676"/>
        <c:axId val="23562781"/>
      </c:barChart>
      <c:catAx>
        <c:axId val="7949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2781"/>
        <c:crosses val="autoZero"/>
        <c:auto val="1"/>
        <c:lblAlgn val="ctr"/>
        <c:lblOffset val="100"/>
        <c:noMultiLvlLbl val="0"/>
      </c:catAx>
      <c:valAx>
        <c:axId val="23562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C8D-349E-4607-B78A-E3DFF9E4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D69-04C0-4937-BEA0-404302C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DB6-144C-4E31-AB75-9B9F9EC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EE7-86BA-4D5B-BA56-11421C3B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235-A759-4763-9139-C285ABD0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2F9-967D-4196-8016-51C61A4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208-FCB7-46A2-A71A-97F8E2D1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1D2-4A93-4E3A-B2F8-A9DC6387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BF2-416A-47BB-A9A0-E0B8B72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E6C-2FA6-455E-83BC-3A46B8B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33C-FDF6-41EC-A6FE-D5FC986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175-3E91-4477-8885-E1E5022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9FB7-BE91-4FD0-B737-3ECB6D3838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