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0549"/>
        <c:axId val="83542555"/>
      </c:barChart>
      <c:catAx>
        <c:axId val="6320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42555"/>
        <c:crosses val="autoZero"/>
        <c:auto val="1"/>
        <c:lblAlgn val="ctr"/>
        <c:lblOffset val="100"/>
        <c:noMultiLvlLbl val="0"/>
      </c:catAx>
      <c:valAx>
        <c:axId val="83542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0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A26-21F8-405F-A7C1-5AFAD217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715-3840-4017-9E8C-A7C3A5CE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D21-36C9-4367-9627-8793E638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BD0-384E-425D-B844-D0C8B510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7BB-C9FE-4C61-8A4B-930FD52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B3C-DF5E-4ADC-B3BE-70DD1FD4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696-7403-4943-A08D-D85F4777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C61-3E94-4013-8B3F-D8CEAE3A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227-AFA1-4D96-BAE6-1F14E447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485-7CAF-4809-B013-9B5BD59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85D-4240-45A0-8FC5-39151ECD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607-64C1-47BA-8D96-AC3C1A1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01639-EBA3-4D4A-969D-68CA7AA3DE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