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96917"/>
        <c:axId val="88238912"/>
      </c:barChart>
      <c:catAx>
        <c:axId val="18996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38912"/>
        <c:crosses val="autoZero"/>
        <c:auto val="1"/>
        <c:lblAlgn val="ctr"/>
        <c:lblOffset val="100"/>
        <c:noMultiLvlLbl val="0"/>
      </c:catAx>
      <c:valAx>
        <c:axId val="88238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96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650-65DC-44C2-901C-254D3E80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834-CCE4-4847-AB85-F707A6B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82A-B529-495C-9DA8-069CA15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D2-FB36-4572-8C35-0E790669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B21-7031-40EF-97FC-7BEE0DC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EBA-FB75-433B-8D76-421DAEF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7DE-BEEA-40B7-BF7D-FE6A3BC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E8C-8066-480B-95D3-D38946C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1F0-B068-42A0-89C0-C6C14434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0C7-0966-49CE-937A-445FE96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B5A-F9DF-451F-AEE1-B20B241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80F-F651-4C1E-8954-5858AE5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BE1D-6A5F-4CEC-9989-EBD85A0DF2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