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64192"/>
        <c:axId val="22044004"/>
      </c:barChart>
      <c:catAx>
        <c:axId val="60564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4004"/>
        <c:crosses val="autoZero"/>
        <c:auto val="1"/>
        <c:lblAlgn val="ctr"/>
        <c:lblOffset val="100"/>
        <c:noMultiLvlLbl val="0"/>
      </c:catAx>
      <c:valAx>
        <c:axId val="22044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4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F3C-690F-4D1E-8155-EC036939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FAF-C1C9-4567-895A-679616A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7A3-5A1B-482A-AF9E-F12A54C8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2BE-DA84-4010-9FE5-1B132D48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5D4-C0F3-4F42-B22F-830B7C8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8DF-06E6-4DEC-837C-854B62A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062-7798-4CD0-A902-9AC7AEF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29F-7E58-4FE3-B4EA-3020AE2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104-501D-41C4-BC1D-A4C76F4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DB1-A01A-4B80-9415-1B86318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BC-96AF-491D-A60E-4999D31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6BB-EFB5-4342-BE57-C24F56B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07F4-0D50-4554-AD1E-B51EEEDFD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