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996126"/>
        <c:axId val="95598895"/>
      </c:barChart>
      <c:catAx>
        <c:axId val="719961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598895"/>
        <c:crosses val="autoZero"/>
        <c:auto val="1"/>
        <c:lblAlgn val="ctr"/>
        <c:lblOffset val="100"/>
        <c:noMultiLvlLbl val="0"/>
      </c:catAx>
      <c:valAx>
        <c:axId val="955988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9961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539D-40C4-4516-B4A9-15D8CA79C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A602-00AE-472F-9B74-BF7E4DF2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9981-5618-4E74-A8AF-0E96FC307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13BA-0E96-4BA9-BEC7-5900273F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C044-86E6-4414-8E63-58C9CBC5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7D71-B0EE-47DC-8B5C-E0F25172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9599-1F78-4FFD-82FD-78F90CBF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B08D-0BDA-42C9-8708-DD0DC18C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28E9-F1A8-4C5F-BD9E-73FB8F61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B938-78B6-4400-A241-BA8F9304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4D06-A570-4986-934B-288B06E9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2B33-0D14-4539-BD57-AA8C2BC6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8103E-8F1C-42BF-A3EE-C73A08CF6A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