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131902"/>
        <c:axId val="13306749"/>
      </c:barChart>
      <c:catAx>
        <c:axId val="94131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06749"/>
        <c:crosses val="autoZero"/>
        <c:auto val="1"/>
        <c:lblAlgn val="ctr"/>
        <c:lblOffset val="100"/>
        <c:noMultiLvlLbl val="0"/>
      </c:catAx>
      <c:valAx>
        <c:axId val="13306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31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74C-4E5A-45C3-9408-6B44730E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A90D-474A-4510-8149-7BB082F2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682-ACDF-4913-8921-FD981B5D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76A-A8D1-4680-A661-A0CC3103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6352-46FD-427D-93EC-C3189D9A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404-8150-416C-A209-13FFF115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4347-0E6D-4153-9C1A-ADF73901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23C7-5360-46E9-B6D7-EEF5F778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3C4-4212-4156-8100-481F3737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2B0-7E10-443D-BD58-56F0D1D2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25D-50CD-4F72-AF4D-ED0B8AC1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7E6-F2FF-4AD8-B0B3-867EC287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0C61D-151D-4A45-BF05-A7294859C3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