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85804"/>
        <c:axId val="68080471"/>
      </c:barChart>
      <c:catAx>
        <c:axId val="5128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0471"/>
        <c:crosses val="autoZero"/>
        <c:auto val="1"/>
        <c:lblAlgn val="ctr"/>
        <c:lblOffset val="100"/>
        <c:noMultiLvlLbl val="0"/>
      </c:catAx>
      <c:valAx>
        <c:axId val="68080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8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F44-D04D-47A3-A36B-6296256A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264-F02D-4FAC-898E-61C2B7A7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3C4-B895-402D-A5E2-E65C6876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FA5-8920-4C72-BB5F-1EF87738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075-7176-4477-AAF1-04592A5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774-1B90-4A3E-AC14-39FF87D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F8E-C4B7-4DF4-82CE-C96A21DA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961-3141-467E-AC07-958EC89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618-5AE1-403B-A8E0-2C69C8B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CEC-5BEE-48DB-8D3E-A874529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F53-6245-45CF-B720-A2E88F2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AC1-1FEC-4F41-A968-F4395E8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13B6-857D-4798-AAD0-FEAD3D502D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