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399762"/>
        <c:axId val="45806719"/>
      </c:barChart>
      <c:catAx>
        <c:axId val="963997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806719"/>
        <c:crosses val="autoZero"/>
        <c:auto val="1"/>
        <c:lblAlgn val="ctr"/>
        <c:lblOffset val="100"/>
        <c:noMultiLvlLbl val="0"/>
      </c:catAx>
      <c:valAx>
        <c:axId val="458067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3997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857D-A6DA-45FB-83FB-6E522C8CC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606E-9F36-48A1-A327-3BEDA5550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5EB9-140F-4A70-BFF4-A49B31054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CA9E-44B4-4BBE-97CA-91EA1EDEF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D686-5236-40AA-9636-8898F2DDA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56C7-FF60-45E8-944F-306E87C91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C228-1C1C-4E24-85D0-7E8B3D2A9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5ECD-6434-414D-AE44-9270CD453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422B-B323-465C-9934-9BE93308E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9A4C-8649-49DA-AF74-CBEE04CA6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FA88-0818-4714-8EDF-222D07796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3C65-EC6D-4D22-B7E1-F4EF55EA9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E1298E-5A48-4C3D-A4DA-72E454CAF92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