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40219"/>
        <c:axId val="34950783"/>
      </c:barChart>
      <c:catAx>
        <c:axId val="27402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50783"/>
        <c:crosses val="autoZero"/>
        <c:auto val="1"/>
        <c:lblAlgn val="ctr"/>
        <c:lblOffset val="100"/>
        <c:noMultiLvlLbl val="0"/>
      </c:catAx>
      <c:valAx>
        <c:axId val="34950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02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33BA-825D-4F69-B513-3CDEC601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732D-FFA1-455D-B64E-47D939CE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397C-DE70-43B9-8F5C-7AC800A3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3D7D-67E0-420A-8A6B-C630D45E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94C0-E792-4E31-B06E-40D0C9DD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2048-5355-413F-9EEA-0BE38726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2341-9A98-4F81-A1D9-BF50CB9F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CBB6-4838-436C-9A88-7753FE82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CEBD-C04F-47C3-88E9-24804C05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E935-8A3E-4282-991C-DD8F74E9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0570-78DE-4B79-B04B-52BC90F1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CBF8-EF97-4CF7-8A06-06DCA543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DF799-17C4-4DA2-A39E-FC98C4FA67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