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43818"/>
        <c:axId val="71224522"/>
      </c:barChart>
      <c:catAx>
        <c:axId val="87043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24522"/>
        <c:crosses val="autoZero"/>
        <c:auto val="1"/>
        <c:lblAlgn val="ctr"/>
        <c:lblOffset val="100"/>
        <c:noMultiLvlLbl val="0"/>
      </c:catAx>
      <c:valAx>
        <c:axId val="71224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43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A82-8301-4CC6-8CC9-0CF65470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281-957A-452D-8970-0BB73B78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081-13EF-4B75-8790-0FE28C2E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08B-8716-4F83-A0E6-52242214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A12-F1A2-45F9-B021-91F57709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EC2-8A2D-4B55-AD24-2DEBB6EB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6CF-9122-4432-AB94-5772A6C8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879-017C-4081-9C4F-0615D039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220-8853-4E99-8A23-72238F3F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D54-B72F-47C4-8EBA-F1A8C9C1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700-BEE3-4734-BD43-3C77FB12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464-FA1A-4956-83BC-91F2F8A7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F6B0B-27F8-4438-A454-6A6C5918E6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