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9928"/>
        <c:axId val="61532255"/>
      </c:barChart>
      <c:catAx>
        <c:axId val="3389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32255"/>
        <c:crosses val="autoZero"/>
        <c:auto val="1"/>
        <c:lblAlgn val="ctr"/>
        <c:lblOffset val="100"/>
        <c:noMultiLvlLbl val="0"/>
      </c:catAx>
      <c:valAx>
        <c:axId val="61532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9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B0D-B081-4F84-A354-89A56008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204-072E-4DE9-AF2A-DE5D2FDA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37E-11BB-445C-B55F-463F81FB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6B5-F905-4E66-9AB2-8B96E9B5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113-854F-4CDA-831C-6B9C1F8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B477-BCFA-471C-B535-B9F32C66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18D-3F3F-4D56-95B7-10D18DB1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75B-04FC-4429-8086-304DF53E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5317-471C-4DDD-A58A-2AA74972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FAA-3AB9-4997-A7EF-16A34AD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0CC-5740-448F-9D6B-BB74F283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F6F-5A75-4F43-B716-F843F39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83856-4A15-4B55-982C-8FECF963A1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