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F7999AF-D63F-4F05-9413-660A6A175E0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6494FA2-7FA5-4A84-8FCB-6B6240FAEF4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723CDA6-4F95-4254-827C-FFBFFC4D51E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FC2D981-2F11-460C-8946-ADEFD805E3C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85FAA2A-5EF5-46EB-9E9C-43446589751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89E3463-41A6-4F7E-9967-C7585E90CEE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D132207-91AA-4D42-9E7D-D73EB683996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5B775CD-D008-472E-863B-DA2263D3A90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20B0671-CEF7-4A76-8B6A-B9EAF17BDAB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4D89541-1B74-4C67-8CD2-D041A59509E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7305D80-656F-46FC-9443-E6B800BC633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6D7CDC7-3115-422B-BB48-31726729725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CD34EBC-75B4-4A5F-9615-193B122388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F7DA44E-B429-4BF0-BFA6-19D114DB56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340B124-5677-4412-BA7F-7C0DD7C73D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0560FA4-C170-47DF-A878-23CEA878D1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182984A-97AC-47E1-A4CC-4944AA1DDEE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222B6F2-C5A9-4129-8AFD-2EFB99A171C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AA377A6-252B-4DAE-81CF-585A94C9602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1DBABE7-702B-4A5D-BBF6-5B47AFD2056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4427015-5BA0-41F8-AE36-CC8D99CA730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684E3D6-E0F8-40DE-9DC2-A66E88D19BF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6D75604-CC39-44C2-A5CE-885E332DBAA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146BE42-A253-4F2F-A80A-32FF9BF53B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AF189E3-28C1-47EB-AD61-9695251ABA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0D9D411-373B-411B-AF00-07CB57435D1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71F3D22-3C5B-49AA-8788-D057FBB228D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61FF79D-54F3-4ACB-9A46-21BA8EB44D9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61ECBEB-87BD-470E-939C-18EEBFD16C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7EEA5A-0570-4A6B-89E7-B27852B34F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52E429-07A5-47F8-953C-B9105EDA2F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A5A6C08-9266-4F79-9804-0C72F35766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AE83239-177C-4A46-AD11-227E714002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104C9B-ECDD-482B-9CC6-3B12A185EF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AD42E5-72F2-4A6E-B4BC-F602DD2DFC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A1CF85-47B2-4CCC-ADA4-E89CD9C774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60992-5C35-4C7F-BC15-E7EA7C085A87}"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E3A82-D8FF-4217-971B-75DEC68455C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BC91F5E-07F3-4B4D-A873-C879552CAFC9}"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64D8E9-97F4-4347-A77C-1A664C3E97EB}"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F505605-3E8E-49A7-96C8-F31700AF0AF4}"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CBAD90A-6597-41A3-AF3C-94BCB61331D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A42B5B4-60FF-4490-9EF5-730AC5FE2E56}"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DAEB32E-C944-439D-ADA0-14F020195D7A}"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A9E22BA-9CB2-4256-A3F0-2AF6A5953E3C}"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E538C90-4E90-4B74-9AD5-E174304582E3}"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0CC89CD-46B0-4A05-9634-A29DD1762FBF}"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B3B2D7C-BC41-4AFB-9CD2-E22C71764986}"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1524ABC-37F8-4FFE-85C2-8EDD1D471DB8}"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C67BC49C-C20D-46A1-9DC3-C8E7B700F727}"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7B2EFED-73DD-4ACC-90CE-4AB48351F976}"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8F6F88D-14C4-4AC2-8404-885A6109C735}"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9AF9F47-710A-440B-AF5F-2DA0D70E438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08A8615-FB8C-4ADC-80E0-09DF9075EED6}"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D216110-5097-430E-A8E9-EFAD20C9C0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D4B5044-4C8A-4A83-A360-0A49538826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AB7CCD2-F8A5-4EB5-ACDE-DAA4DEEC18EB}"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1D40560-4376-4969-BCAA-332CBFF66A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3AA7A2B-E0CD-4B0A-AE66-47A78027D8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6A34582-30B7-4B05-A6DB-F9D001160629}"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7F77385-E303-42D3-A7D2-550883F838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0663D51-4CE6-4194-A5A4-9912BC50C7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726EAE8-33D6-4219-BFB4-064D5AB9E2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8A3BB1F-5EE5-4614-86D2-9C5D569188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318D7DA-4208-4633-85B6-EEA2E082F658}"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C39CB5A-A6E9-4F4E-9ACC-0933D18DCE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EFB2A65-A437-4C29-8D4D-107A45D4D2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5E01C71-7861-4239-94E5-371B1BAB3301}"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169B4A3-5808-4EAA-8093-9F43CE4BAF9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255676F-E2FD-457A-B738-1370078C588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908EC26-29A7-4757-BC6A-0FD08172DBA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9862667-C52D-4979-A795-E254E502FFC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1E26A70-E64F-4622-89FC-0778DCBF396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8B691BE-AD73-4C79-9041-7B91F8B1087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C47EF36-9ED6-41DD-9649-FA60A62D0D5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950A325-4233-450C-BC33-E36A3558626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CC82652-6ACE-40A9-912F-B704EAB8AC09}"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AA0940D-D6E1-4CEF-A31F-5DBF0BED8F0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FA40979-6194-440D-9F68-A096BF0F571D}"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763F62F-ADB9-4888-9E50-E16C003D0D24}"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AD02DE3-54AD-4DEA-BFD7-56B7408E60D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CFC2400-D599-46FC-8316-3896845436F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DECFD8C-1F91-414A-ABBD-4E66328469C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5CD6543-8CC7-4A7F-AE11-1BF99631F17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BE712BC-420A-4B6C-B21C-9A56663C767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39E275-3510-4341-A689-ADD0B0D1B64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C0A3245-97DF-4D1D-B570-0CD30CE701D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95CBF0A-E65F-4BC2-A7AD-D531D71F844C}"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CE31AB-F7B1-4F63-A804-0C3981DF2A3D}"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8DE94EF-0C12-4DFA-98AA-CEE858A61249}"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BC308B4-0C0D-4414-B576-DD6C740D798D}"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E711025-0658-4E29-8F04-EC5058273E0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FC973E7-46C1-45CD-98CF-E37DE9D58C0A}"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8BACE81-7419-45C6-9378-32257E946201}"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04E886B-79CE-4BEB-AC1C-B9EBC3606690}"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69E638D-D9C4-48D3-8197-4053EEC9DA31}"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D2D82DA-2092-4793-83E1-963689B17DCF}"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80AB842-7C62-4E9B-83DC-7DCEE362AE6B}"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2B62DCA-A63F-479B-B955-4F18011CD0AE}"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7C2594B-747A-4899-B69A-4590F2ED223E}"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04CBC79-C504-443C-9A17-7EE802B6A6A2}"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49BB5DE-896C-4E71-B498-DC3D5F843E77}"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28F9F6F-BA08-4DCD-8B08-2BDFA02B14C8}"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7DEC738-ADC2-4549-AEF0-A04BD5D504F2}"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4F359BF-0CDD-44A2-93F5-9D4B8859EA7A}"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4EA49CE-1727-4BB9-B3C5-5B9FAF416C1B}"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FE519A8-025F-452C-B4AA-A8D93D67D4C9}"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2F851A0-F9F1-4282-9624-3F07EA4FA211}"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889EE82-0276-4B6D-9E06-52B82671F368}"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78BBDFD-A322-4E0A-9162-C5FD7096A5A4}"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A180C4E-55C7-4815-96C3-32EFFB881803}"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3820416-8ABC-4DC9-970B-8E740F1A75E2}"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4DFBD7E-A5C3-435F-B852-6795EED3431E}"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2D49F77-6F69-4C14-BC83-BD28D3F46FC5}"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2390E52-5437-4D93-BD5E-31CBF208AFBB}"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763CBB5-48A2-42E9-8334-FE2568423EA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A972D27-A4D0-4083-A5B6-B78D17382506}"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83A8EDC-ACB1-4BD4-A83C-01F06D5F8A5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0E842B0-AB0A-48A4-B2CD-64C87B7EFC94}"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0A12446-9C86-446B-A90D-5C73EE7A00E2}"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14017B1-BCD5-4174-B8F9-44979D11F0B0}"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9B13BB4-5301-4C58-BD85-48AF28BD32CC}"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EC1C46F-8D53-4E8C-A618-78E628802B86}"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771437F-9EBC-4168-B05F-E7E07870B392}"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D5F1A98-9EA9-407A-80C6-6469620CAD40}"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0A557CC-E5A8-4608-B8FE-0A55CA686354}"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0FFA6E5-9F7A-4FB2-9150-8A0D46651F43}"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1475C77-33B9-44E3-81B4-288994F9B813}"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B22062C-F4FE-4D96-BA32-C1164F1EB286}"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4887396-175E-40C0-8B74-5799067DEECA}"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0105367-B5FC-45B0-8BCB-464119425882}"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531EABD-827C-486B-8D18-341D987FA53D}"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E6FF5E3-77A8-4F7C-A3BA-4A70C6F2E7E0}"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C5FB34-0597-4BE6-97DC-71AD03186B42}"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841FD4D-EB17-4A5B-A6BF-F1A43CFAD384}"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F4CD989D-A0AB-40B7-BEDB-6FA4C2B9A565}"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9BA594A-9E19-4AF1-8B87-4221AF41B8AA}"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C115A24-64BA-4CA5-90D3-AFA7D964E17F}"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B0EDAB9-8342-4F32-BFB1-13CAF592978E}"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40720EB-E24C-4B8D-B147-9BA51944ABFF}"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302C043-84E1-4DB4-AE4A-88DF76EF086E}"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C4D01A-2EC6-455C-8533-18938138B912}"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FD7A93C-2BD1-41CE-9870-095FE515CF30}"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1A8180D-19B1-445B-8742-4368448A6B11}"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6C20D01-605F-4A33-96E2-DF6DCBAD6248}"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4C038B2-E5D1-4BFA-982C-FCA91BBC92BD}"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9067BF0-EA70-4057-885C-E35B9D033A9E}"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459EE1B-2897-441C-84FB-7A4F1CFA9ED1}"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7758908-DEA3-475C-8436-6A171546F5DE}"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