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jpeg" ContentType="image/jpeg"/>
  <Override PartName="/ppt/media/image5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9912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2904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3962160" y="0"/>
            <a:ext cx="302868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0" y="8818560"/>
            <a:ext cx="302904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lstStyle>
            <a:lvl1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3962160" y="8818560"/>
            <a:ext cx="302868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14786A64-DA72-4038-929A-2B5DBD052DB6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body"/>
          </p:nvPr>
        </p:nvSpPr>
        <p:spPr>
          <a:xfrm>
            <a:off x="931680" y="4406760"/>
            <a:ext cx="5126040" cy="41767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600" bIns="486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23120" cy="3466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/>
          <p:nvPr/>
        </p:nvSpPr>
        <p:spPr>
          <a:xfrm>
            <a:off x="3959280" y="-1440"/>
            <a:ext cx="30319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3959280" y="8815320"/>
            <a:ext cx="303192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-1440" y="8815320"/>
            <a:ext cx="303048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-1440" y="-1440"/>
            <a:ext cx="30304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959280" y="-1440"/>
            <a:ext cx="30319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59280" y="8815320"/>
            <a:ext cx="303192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-1440" y="8815320"/>
            <a:ext cx="303048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-1440" y="-1440"/>
            <a:ext cx="30304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959280" y="-1440"/>
            <a:ext cx="30319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9280" y="8815320"/>
            <a:ext cx="303192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-1440" y="8815320"/>
            <a:ext cx="303048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-1440" y="-1440"/>
            <a:ext cx="30304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959280" y="-1440"/>
            <a:ext cx="30319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959280" y="8815320"/>
            <a:ext cx="303192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-1440" y="8815320"/>
            <a:ext cx="303048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-1440" y="-1440"/>
            <a:ext cx="30304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959280" y="-1440"/>
            <a:ext cx="30319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3959280" y="8815320"/>
            <a:ext cx="303192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-1440" y="8815320"/>
            <a:ext cx="303048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-1440" y="-1440"/>
            <a:ext cx="30304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3959280" y="-1440"/>
            <a:ext cx="30319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959280" y="8815320"/>
            <a:ext cx="303192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-1440" y="8815320"/>
            <a:ext cx="303048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-1440" y="-1440"/>
            <a:ext cx="30304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959280" y="-1440"/>
            <a:ext cx="30319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3959280" y="8815320"/>
            <a:ext cx="303192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-1440" y="8815320"/>
            <a:ext cx="303048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-1440" y="-1440"/>
            <a:ext cx="30304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959280" y="-1440"/>
            <a:ext cx="30319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959280" y="8815320"/>
            <a:ext cx="303192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-1440" y="8815320"/>
            <a:ext cx="303048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-1440" y="-1440"/>
            <a:ext cx="30304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959280" y="-1440"/>
            <a:ext cx="30319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959280" y="8815320"/>
            <a:ext cx="303192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-1440" y="8815320"/>
            <a:ext cx="303048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-1440" y="-1440"/>
            <a:ext cx="30304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3959280" y="-1440"/>
            <a:ext cx="30319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959280" y="8815320"/>
            <a:ext cx="303192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-1440" y="8815320"/>
            <a:ext cx="303048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-1440" y="-1440"/>
            <a:ext cx="30304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959280" y="-1440"/>
            <a:ext cx="30319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959280" y="8815320"/>
            <a:ext cx="303192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-1440" y="8815320"/>
            <a:ext cx="303048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-1440" y="-1440"/>
            <a:ext cx="30304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3959280" y="-1440"/>
            <a:ext cx="30319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3959280" y="8815320"/>
            <a:ext cx="303192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-1440" y="8815320"/>
            <a:ext cx="303048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-1440" y="-1440"/>
            <a:ext cx="30304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3959280" y="-1440"/>
            <a:ext cx="30319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3959280" y="8815320"/>
            <a:ext cx="303192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-1440" y="8815320"/>
            <a:ext cx="303048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-1440" y="-1440"/>
            <a:ext cx="30304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959280" y="-1440"/>
            <a:ext cx="30319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3959280" y="8815320"/>
            <a:ext cx="303192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-1440" y="8815320"/>
            <a:ext cx="303048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-1440" y="-1440"/>
            <a:ext cx="30304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3959280" y="-1440"/>
            <a:ext cx="30319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3959280" y="8815320"/>
            <a:ext cx="303192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-1440" y="8815320"/>
            <a:ext cx="303048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-1440" y="-1440"/>
            <a:ext cx="30304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959280" y="-1440"/>
            <a:ext cx="30319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3959280" y="8815320"/>
            <a:ext cx="303192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-1440" y="8815320"/>
            <a:ext cx="303048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-1440" y="-1440"/>
            <a:ext cx="30304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84400" y="701640"/>
            <a:ext cx="4620960" cy="346572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930240" y="4406760"/>
            <a:ext cx="5127840" cy="41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6AA16-0BA7-4225-A3CA-D1DB25422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18680" y="1485720"/>
            <a:ext cx="8318520" cy="241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18680" y="4132440"/>
            <a:ext cx="8318520" cy="241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9EEFE-A836-4182-8383-8C40559C7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18680" y="1485720"/>
            <a:ext cx="4059360" cy="241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1440" y="1485720"/>
            <a:ext cx="4059360" cy="241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18680" y="4132440"/>
            <a:ext cx="4059360" cy="241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1440" y="4132440"/>
            <a:ext cx="4059360" cy="241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4AC1E-4711-42B5-8A8C-73930274D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18680" y="1485720"/>
            <a:ext cx="2678400" cy="241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1360" y="1485720"/>
            <a:ext cx="2678400" cy="241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44040" y="1485720"/>
            <a:ext cx="2678400" cy="241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18680" y="4132440"/>
            <a:ext cx="2678400" cy="241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1360" y="4132440"/>
            <a:ext cx="2678400" cy="241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44040" y="4132440"/>
            <a:ext cx="2678400" cy="241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B5262-9D5F-457C-9402-AE5EFF6E0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18680" y="1485720"/>
            <a:ext cx="8318520" cy="50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798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29774-96CD-472D-92F8-51E03C42E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18680" y="1485720"/>
            <a:ext cx="8318520" cy="506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36D95-C02F-4808-B847-6ACAD8820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18680" y="1485720"/>
            <a:ext cx="4059360" cy="506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1440" y="1485720"/>
            <a:ext cx="4059360" cy="506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3F806-252C-4960-9DEA-A1C870AFF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6E992-9B93-41BE-B90B-0C15210A6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18680" y="298440"/>
            <a:ext cx="8280360" cy="42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7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15EFD-0062-46C7-93F8-FD9533090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18680" y="1485720"/>
            <a:ext cx="4059360" cy="241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485720"/>
            <a:ext cx="4059360" cy="506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18680" y="4132440"/>
            <a:ext cx="4059360" cy="241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708BE-0EBB-47A6-A7F3-B4D6A4E9F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18680" y="1485720"/>
            <a:ext cx="4059360" cy="506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1485720"/>
            <a:ext cx="4059360" cy="241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1440" y="4132440"/>
            <a:ext cx="4059360" cy="241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0EF9E-03CD-4E0F-8478-4E13A197A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18680" y="1485720"/>
            <a:ext cx="4059360" cy="241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1440" y="1485720"/>
            <a:ext cx="4059360" cy="241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18680" y="4132440"/>
            <a:ext cx="8318520" cy="241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90436-8321-40FA-B1C9-1613DAF9A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8610480" y="6629040"/>
            <a:ext cx="53352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C32C4-E807-4445-9FAE-83382901E0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18680" y="1485720"/>
            <a:ext cx="8318520" cy="506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ts val="2798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spcBef>
                <a:spcPts val="601"/>
              </a:spcBef>
              <a:buClr>
                <a:srgbClr val="0c7b9c"/>
              </a:buClr>
              <a:buFont typeface="Arial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20840" indent="-228600">
              <a:lnSpc>
                <a:spcPts val="2798"/>
              </a:lnSpc>
              <a:spcBef>
                <a:spcPts val="601"/>
              </a:spcBef>
              <a:buClr>
                <a:srgbClr val="0c7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63560" indent="-228600">
              <a:lnSpc>
                <a:spcPts val="2798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ts val="2798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ts val="2798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ts val="2798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98520" y="6591240"/>
            <a:ext cx="70308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a6089"/>
                </a:solidFill>
                <a:latin typeface="Arial"/>
              </a:rPr>
              <a:t>CAS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419040" y="1251000"/>
            <a:ext cx="8305920" cy="196920"/>
            <a:chOff x="419040" y="1251000"/>
            <a:chExt cx="8305920" cy="196920"/>
          </a:xfrm>
        </p:grpSpPr>
        <p:sp>
          <p:nvSpPr>
            <p:cNvPr id="7" name=""/>
            <p:cNvSpPr/>
            <p:nvPr/>
          </p:nvSpPr>
          <p:spPr>
            <a:xfrm>
              <a:off x="419040" y="1251000"/>
              <a:ext cx="8305920" cy="96840"/>
            </a:xfrm>
            <a:prstGeom prst="rect">
              <a:avLst/>
            </a:prstGeom>
            <a:gradFill rotWithShape="0">
              <a:gsLst>
                <a:gs pos="0">
                  <a:srgbClr val="0e9ab9"/>
                </a:gs>
                <a:gs pos="50000">
                  <a:srgbClr val="12c2e9"/>
                </a:gs>
                <a:gs pos="100000">
                  <a:srgbClr val="0e9ab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419040" y="1398600"/>
              <a:ext cx="8305920" cy="4932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33360" y="2654280"/>
            <a:ext cx="8524800" cy="397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ts val="2798"/>
              </a:lnSpc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ott Kohn</a:t>
            </a: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m Epperly and Gary Kumfert</a:t>
            </a:r>
            <a:br>
              <a:rPr sz="2400"/>
            </a:br>
            <a:br>
              <a:rPr sz="2800"/>
            </a:b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enter for Applied Scientific Computing</a:t>
            </a: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Lawrence Livermore National Laboratory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ctober 3, 200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47840" y="5892840"/>
            <a:ext cx="2286000" cy="8510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7873920" y="6022800"/>
            <a:ext cx="673200" cy="6508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228600" y="114300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 anchorCtr="1">
            <a:noAutofit/>
          </a:bodyPr>
          <a:p>
            <a:pPr algn="ctr"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ponent Technology for High-Performance Scientific Simulation Softw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533520" y="853920"/>
            <a:ext cx="8076960" cy="152280"/>
            <a:chOff x="533520" y="853920"/>
            <a:chExt cx="8076960" cy="152280"/>
          </a:xfrm>
        </p:grpSpPr>
        <p:sp>
          <p:nvSpPr>
            <p:cNvPr id="57" name=""/>
            <p:cNvSpPr/>
            <p:nvPr/>
          </p:nvSpPr>
          <p:spPr>
            <a:xfrm>
              <a:off x="533520" y="853920"/>
              <a:ext cx="8076960" cy="74520"/>
            </a:xfrm>
            <a:prstGeom prst="rect">
              <a:avLst/>
            </a:prstGeom>
            <a:gradFill rotWithShape="0">
              <a:gsLst>
                <a:gs pos="0">
                  <a:srgbClr val="10add0"/>
                </a:gs>
                <a:gs pos="50000">
                  <a:srgbClr val="12c2e9"/>
                </a:gs>
                <a:gs pos="100000">
                  <a:srgbClr val="10add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33520" y="968040"/>
              <a:ext cx="8076960" cy="3816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504720" y="2422440"/>
            <a:ext cx="8076960" cy="152640"/>
            <a:chOff x="504720" y="2422440"/>
            <a:chExt cx="8076960" cy="152640"/>
          </a:xfrm>
        </p:grpSpPr>
        <p:sp>
          <p:nvSpPr>
            <p:cNvPr id="60" name=""/>
            <p:cNvSpPr/>
            <p:nvPr/>
          </p:nvSpPr>
          <p:spPr>
            <a:xfrm>
              <a:off x="504720" y="2422440"/>
              <a:ext cx="8076960" cy="74880"/>
            </a:xfrm>
            <a:prstGeom prst="rect">
              <a:avLst/>
            </a:prstGeom>
            <a:gradFill rotWithShape="0">
              <a:gsLst>
                <a:gs pos="0">
                  <a:srgbClr val="10add0"/>
                </a:gs>
                <a:gs pos="50000">
                  <a:srgbClr val="12c2e9"/>
                </a:gs>
                <a:gs pos="100000">
                  <a:srgbClr val="10add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04720" y="2536920"/>
              <a:ext cx="8076960" cy="3816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F403A-9919-425D-A47A-5CF802C8DF28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55680" y="298440"/>
            <a:ext cx="840744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CA is investigating high-performance component technology for the DO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19040" y="1485720"/>
            <a:ext cx="8724960" cy="476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ts val="2798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mon Component Architecture (CCA) foru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gular workshops and meetings since January, 199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L, LANL, LBNL, LLNL, ORNL, SNL, Indiana, and Utah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z.ca.sandia.gov/~cca-foru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798"/>
              </a:lnSpc>
              <a:spcBef>
                <a:spcPts val="24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oal: interoperability for high-performance softwa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cus on massively parallel SPMD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ify industry approaches for the scientific domai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798"/>
              </a:lnSpc>
              <a:spcBef>
                <a:spcPts val="24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specifications and reference implement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verage technology developed by CCA participan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n to develop a joint reference implementation by FY0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CBAD0-BEAD-42C1-8429-FDE4F51B8AA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CCA is researching a variety of component issues in scientific computing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19040" y="1485720"/>
            <a:ext cx="8724960" cy="460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ts val="2798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munication between components via por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798"/>
              </a:lnSpc>
              <a:spcBef>
                <a:spcPts val="1199"/>
              </a:spcBef>
              <a:buClr>
                <a:srgbClr val="0c7b9c"/>
              </a:buClr>
              <a:buSzPct val="75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Standard component repository formats and tool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798"/>
              </a:lnSpc>
              <a:spcBef>
                <a:spcPts val="1199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osition GU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798"/>
              </a:lnSpc>
              <a:spcBef>
                <a:spcPts val="1199"/>
              </a:spcBef>
              <a:buClr>
                <a:srgbClr val="0c7b9c"/>
              </a:buClr>
              <a:buSzPct val="75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Language interoperability technolog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798"/>
              </a:lnSpc>
              <a:spcBef>
                <a:spcPts val="1199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ynamic component load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798"/>
              </a:lnSpc>
              <a:spcBef>
                <a:spcPts val="1199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tributed compone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798"/>
              </a:lnSpc>
              <a:spcBef>
                <a:spcPts val="1199"/>
              </a:spcBef>
              <a:buClr>
                <a:srgbClr val="0c7b9c"/>
              </a:buClr>
              <a:buSzPct val="75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Parallel data redistribution between SPMD compone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798"/>
              </a:lnSpc>
              <a:spcBef>
                <a:spcPts val="1199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main interface standards (e.g., solvers, meshes, …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798"/>
              </a:lnSpc>
              <a:spcBef>
                <a:spcPts val="1199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icient low-level parallel communication librari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7E43E-1DC9-4763-A813-19EC78351B2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esentation outlin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04640" y="1601280"/>
            <a:ext cx="8739360" cy="3884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ts val="3600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77777"/>
                </a:solidFill>
                <a:latin typeface="Arial"/>
              </a:rPr>
              <a:t>Motiv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3600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77777"/>
                </a:solidFill>
                <a:latin typeface="Arial"/>
              </a:rPr>
              <a:t>DOE community activities (CCA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3600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nguage interoperability technology (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Babel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3600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77777"/>
                </a:solidFill>
                <a:latin typeface="Arial"/>
              </a:rPr>
              <a:t>Component type and software repository (</a:t>
            </a:r>
            <a:r>
              <a:rPr b="1" i="1" lang="en-US" sz="2400" spc="-1" strike="noStrike">
                <a:solidFill>
                  <a:srgbClr val="777777"/>
                </a:solidFill>
                <a:latin typeface="Arial"/>
              </a:rPr>
              <a:t>Alexandria</a:t>
            </a:r>
            <a:r>
              <a:rPr b="1" lang="en-US" sz="2400" spc="-1" strike="noStrike">
                <a:solidFill>
                  <a:srgbClr val="777777"/>
                </a:solidFill>
                <a:latin typeface="Arial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3600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77777"/>
                </a:solidFill>
                <a:latin typeface="Arial"/>
              </a:rPr>
              <a:t>Research issues in parallel component communic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3600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77777"/>
                </a:solidFill>
                <a:latin typeface="Arial"/>
              </a:rPr>
              <a:t>Conclus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D7E32-2B00-40B3-A67C-9F95794BCFD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tivation #1: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nguage interoperabilit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19040" y="1485720"/>
            <a:ext cx="8724960" cy="506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ts val="2798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ivated by Common Component Architecture (CCA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oss-lab interoperability of DOE numerical softwa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E labs use many languages (f77, f90, C, C++, Java, Python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mary focus is on tightly-coupled same-address space cod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03800" y="4343400"/>
            <a:ext cx="2907000" cy="703800"/>
          </a:xfrm>
          <a:prstGeom prst="rect">
            <a:avLst/>
          </a:prstGeom>
          <a:noFill/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80"/>
                </a:solidFill>
                <a:latin typeface="Arial"/>
              </a:rPr>
              <a:t>Simulation Frame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80"/>
                </a:solidFill>
                <a:latin typeface="Arial"/>
              </a:rPr>
              <a:t>(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752640" y="5638680"/>
            <a:ext cx="1890720" cy="7038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33"/>
                </a:solidFill>
                <a:latin typeface="Arial"/>
              </a:rPr>
              <a:t>Solv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33"/>
                </a:solidFill>
                <a:latin typeface="Arial"/>
              </a:rPr>
              <a:t>(C++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2920" y="5638680"/>
            <a:ext cx="2570400" cy="703800"/>
          </a:xfrm>
          <a:prstGeom prst="rect">
            <a:avLst/>
          </a:prstGeom>
          <a:noFill/>
          <a:ln w="3816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b61"/>
                </a:solidFill>
                <a:latin typeface="Arial"/>
              </a:rPr>
              <a:t>Numerical Rout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b61"/>
                </a:solidFill>
                <a:latin typeface="Arial"/>
              </a:rPr>
              <a:t>(f9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599640" y="3124080"/>
            <a:ext cx="2088720" cy="703800"/>
          </a:xfrm>
          <a:prstGeom prst="rect">
            <a:avLst/>
          </a:prstGeom>
          <a:noFill/>
          <a:ln w="38160">
            <a:solidFill>
              <a:srgbClr val="0c6d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c6d9c"/>
                </a:solidFill>
                <a:latin typeface="Arial"/>
              </a:rPr>
              <a:t>Scripting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c6d9c"/>
                </a:solidFill>
                <a:latin typeface="Arial"/>
              </a:rPr>
              <a:t>(Pyth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808960" y="4343400"/>
            <a:ext cx="2710440" cy="703800"/>
          </a:xfrm>
          <a:prstGeom prst="rect">
            <a:avLst/>
          </a:prstGeom>
          <a:noFill/>
          <a:ln w="38160">
            <a:solidFill>
              <a:srgbClr val="00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Visualization 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(Jav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9" name=""/>
          <p:cNvCxnSpPr>
            <a:stCxn id="147" idx="2"/>
            <a:endCxn id="144" idx="0"/>
          </p:cNvCxnSpPr>
          <p:nvPr/>
        </p:nvCxnSpPr>
        <p:spPr>
          <a:xfrm flipH="1">
            <a:off x="2157120" y="3882960"/>
            <a:ext cx="2488320" cy="442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50" name=""/>
          <p:cNvCxnSpPr>
            <a:stCxn id="147" idx="2"/>
            <a:endCxn id="148" idx="0"/>
          </p:cNvCxnSpPr>
          <p:nvPr/>
        </p:nvCxnSpPr>
        <p:spPr>
          <a:xfrm>
            <a:off x="4645080" y="3882960"/>
            <a:ext cx="2520000" cy="442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51" name=""/>
          <p:cNvCxnSpPr>
            <a:stCxn id="144" idx="2"/>
            <a:endCxn id="146" idx="0"/>
          </p:cNvCxnSpPr>
          <p:nvPr/>
        </p:nvCxnSpPr>
        <p:spPr>
          <a:xfrm flipH="1">
            <a:off x="1607760" y="5101920"/>
            <a:ext cx="550080" cy="5180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52" name=""/>
          <p:cNvCxnSpPr>
            <a:stCxn id="144" idx="2"/>
            <a:endCxn id="145" idx="0"/>
          </p:cNvCxnSpPr>
          <p:nvPr/>
        </p:nvCxnSpPr>
        <p:spPr>
          <a:xfrm>
            <a:off x="2157480" y="5101920"/>
            <a:ext cx="2542320" cy="5180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51F97-088C-4615-BB9E-FE4FC57E8FF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tivation #2: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bject support for non-object languag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71680" y="1523880"/>
            <a:ext cx="857232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ts val="2798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ant object implementations in non-object languag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ject-oriented techniques useful for software architectu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 … many scientists are uncomfortable with C++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g., PETSc and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hypr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mplement object-oriented features in 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798"/>
              </a:lnSpc>
              <a:spcBef>
                <a:spcPts val="3200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bject support is tedious and difficult if done by han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heritance and polymorphism require function lookup tab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 infrastructure must be built into each new cla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798"/>
              </a:lnSpc>
              <a:spcBef>
                <a:spcPts val="3200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DL approach provides “automatic” object suppo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L compiler automates generation of object “glue”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lymorphism, multiple inheritance, reference counting, RTTI, ..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F432A-9873-4A76-BFAE-9B3D034C11D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41904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re are many tradeoffs when choosing a language interoperability approa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19040" y="1486080"/>
            <a:ext cx="8724960" cy="23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457200" indent="-457200">
              <a:lnSpc>
                <a:spcPts val="2798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nd generation, wrapper tools (e.g., SWIG), ID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ts val="2798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 chose the IDL approach to language interoper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al: any language can call and us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n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ther langu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onent tools need a common interface description meth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fficient information for automatic generation of distributed cal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s:  CORBA, DCOM, ILU, RPC, microkernel O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4926240" y="4240080"/>
            <a:ext cx="3420000" cy="2055240"/>
            <a:chOff x="4926240" y="4240080"/>
            <a:chExt cx="3420000" cy="2055240"/>
          </a:xfrm>
        </p:grpSpPr>
        <p:sp>
          <p:nvSpPr>
            <p:cNvPr id="158" name=""/>
            <p:cNvSpPr/>
            <p:nvPr/>
          </p:nvSpPr>
          <p:spPr>
            <a:xfrm>
              <a:off x="6264360" y="4957920"/>
              <a:ext cx="519120" cy="51912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126040" y="4773600"/>
              <a:ext cx="32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926240" y="5459400"/>
              <a:ext cx="56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+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285600" y="4240080"/>
              <a:ext cx="47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f7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657200" y="4773600"/>
              <a:ext cx="47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f9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7479720" y="5535720"/>
              <a:ext cx="866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yth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217920" y="5958000"/>
              <a:ext cx="631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Jav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248520" y="5029200"/>
              <a:ext cx="609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33"/>
                  </a:solidFill>
                  <a:latin typeface="Arial"/>
                </a:rPr>
                <a:t>ID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442120" y="4957920"/>
              <a:ext cx="822240" cy="215640"/>
            </a:xfrm>
            <a:prstGeom prst="line">
              <a:avLst/>
            </a:prstGeom>
            <a:ln w="28440">
              <a:solidFill>
                <a:srgbClr val="0c6d9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523200" y="4524480"/>
              <a:ext cx="0" cy="433440"/>
            </a:xfrm>
            <a:prstGeom prst="line">
              <a:avLst/>
            </a:prstGeom>
            <a:ln w="28440">
              <a:solidFill>
                <a:srgbClr val="0c6d9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V="1">
              <a:off x="6783480" y="4957560"/>
              <a:ext cx="907920" cy="215640"/>
            </a:xfrm>
            <a:prstGeom prst="line">
              <a:avLst/>
            </a:prstGeom>
            <a:ln w="28440">
              <a:solidFill>
                <a:srgbClr val="0c6d9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783480" y="5303880"/>
              <a:ext cx="777960" cy="216000"/>
            </a:xfrm>
            <a:prstGeom prst="line">
              <a:avLst/>
            </a:prstGeom>
            <a:ln w="28440">
              <a:solidFill>
                <a:srgbClr val="0c6d9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V="1">
              <a:off x="5484960" y="5303880"/>
              <a:ext cx="779400" cy="216000"/>
            </a:xfrm>
            <a:prstGeom prst="line">
              <a:avLst/>
            </a:prstGeom>
            <a:ln w="28440">
              <a:solidFill>
                <a:srgbClr val="0c6d9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531120" y="5477040"/>
              <a:ext cx="0" cy="474480"/>
            </a:xfrm>
            <a:prstGeom prst="line">
              <a:avLst/>
            </a:prstGeom>
            <a:ln w="28440">
              <a:solidFill>
                <a:srgbClr val="0c6d9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2" name=""/>
          <p:cNvGrpSpPr/>
          <p:nvPr/>
        </p:nvGrpSpPr>
        <p:grpSpPr>
          <a:xfrm>
            <a:off x="687240" y="4280040"/>
            <a:ext cx="3638880" cy="1937160"/>
            <a:chOff x="687240" y="4280040"/>
            <a:chExt cx="3638880" cy="1937160"/>
          </a:xfrm>
        </p:grpSpPr>
        <p:sp>
          <p:nvSpPr>
            <p:cNvPr id="173" name=""/>
            <p:cNvSpPr/>
            <p:nvPr/>
          </p:nvSpPr>
          <p:spPr>
            <a:xfrm>
              <a:off x="3537360" y="4533480"/>
              <a:ext cx="7887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66cc"/>
                  </a:solidFill>
                  <a:latin typeface="Arial"/>
                </a:rPr>
                <a:t>JN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6b61"/>
                  </a:solidFill>
                  <a:latin typeface="Arial"/>
                </a:rPr>
                <a:t>Nativ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00080"/>
                  </a:solidFill>
                  <a:latin typeface="Arial"/>
                </a:rPr>
                <a:t>SWI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915480" y="4660560"/>
              <a:ext cx="32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87240" y="5346360"/>
              <a:ext cx="56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+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982880" y="4280040"/>
              <a:ext cx="47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f7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125880" y="4812840"/>
              <a:ext cx="47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f9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961000" y="5330520"/>
              <a:ext cx="866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yth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982520" y="5879880"/>
              <a:ext cx="631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Jav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80" name=""/>
            <p:cNvCxnSpPr>
              <a:stCxn id="175" idx="0"/>
              <a:endCxn id="174" idx="2"/>
            </p:cNvCxnSpPr>
            <p:nvPr/>
          </p:nvCxnSpPr>
          <p:spPr>
            <a:xfrm flipV="1">
              <a:off x="969480" y="4996440"/>
              <a:ext cx="109800" cy="349560"/>
            </a:xfrm>
            <a:prstGeom prst="straightConnector1">
              <a:avLst/>
            </a:prstGeom>
            <a:ln w="28440">
              <a:solidFill>
                <a:srgbClr val="006b61"/>
              </a:solidFill>
              <a:miter/>
              <a:tailEnd len="med" type="triangle" w="med"/>
            </a:ln>
          </p:spPr>
        </p:cxnSp>
        <p:cxnSp>
          <p:nvCxnSpPr>
            <p:cNvPr id="181" name=""/>
            <p:cNvCxnSpPr>
              <a:stCxn id="175" idx="2"/>
              <a:endCxn id="179" idx="0"/>
            </p:cNvCxnSpPr>
            <p:nvPr/>
          </p:nvCxnSpPr>
          <p:spPr>
            <a:xfrm>
              <a:off x="969840" y="5682960"/>
              <a:ext cx="1329120" cy="197280"/>
            </a:xfrm>
            <a:prstGeom prst="straightConnector1">
              <a:avLst/>
            </a:prstGeom>
            <a:ln w="28440">
              <a:solidFill>
                <a:srgbClr val="0066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82" name=""/>
            <p:cNvCxnSpPr>
              <a:stCxn id="175" idx="3"/>
              <a:endCxn id="178" idx="1"/>
            </p:cNvCxnSpPr>
            <p:nvPr/>
          </p:nvCxnSpPr>
          <p:spPr>
            <a:xfrm flipV="1">
              <a:off x="1253520" y="5498280"/>
              <a:ext cx="1705320" cy="15840"/>
            </a:xfrm>
            <a:prstGeom prst="straightConnector1">
              <a:avLst/>
            </a:prstGeom>
            <a:ln w="28440">
              <a:solidFill>
                <a:srgbClr val="800080"/>
              </a:solidFill>
              <a:miter/>
              <a:headEnd len="med" type="triangle" w="med"/>
            </a:ln>
          </p:spPr>
        </p:cxnSp>
        <p:cxnSp>
          <p:nvCxnSpPr>
            <p:cNvPr id="183" name=""/>
            <p:cNvCxnSpPr>
              <a:stCxn id="174" idx="0"/>
              <a:endCxn id="176" idx="1"/>
            </p:cNvCxnSpPr>
            <p:nvPr/>
          </p:nvCxnSpPr>
          <p:spPr>
            <a:xfrm flipV="1">
              <a:off x="1079280" y="4447440"/>
              <a:ext cx="902160" cy="213120"/>
            </a:xfrm>
            <a:prstGeom prst="straightConnector1">
              <a:avLst/>
            </a:prstGeom>
            <a:ln w="28440">
              <a:solidFill>
                <a:srgbClr val="006b61"/>
              </a:solidFill>
              <a:miter/>
              <a:tailEnd len="med" type="triangle" w="med"/>
            </a:ln>
          </p:spPr>
        </p:cxnSp>
        <p:cxnSp>
          <p:nvCxnSpPr>
            <p:cNvPr id="184" name=""/>
            <p:cNvCxnSpPr>
              <a:stCxn id="177" idx="0"/>
              <a:endCxn id="176" idx="3"/>
            </p:cNvCxnSpPr>
            <p:nvPr/>
          </p:nvCxnSpPr>
          <p:spPr>
            <a:xfrm flipH="1" flipV="1">
              <a:off x="2458080" y="4447440"/>
              <a:ext cx="905400" cy="365040"/>
            </a:xfrm>
            <a:prstGeom prst="straightConnector1">
              <a:avLst/>
            </a:prstGeom>
            <a:ln w="28440">
              <a:solidFill>
                <a:srgbClr val="006b61"/>
              </a:solidFill>
              <a:miter/>
              <a:tailEnd len="med" type="triangle" w="med"/>
            </a:ln>
          </p:spPr>
        </p:cxnSp>
        <p:cxnSp>
          <p:nvCxnSpPr>
            <p:cNvPr id="185" name=""/>
            <p:cNvCxnSpPr>
              <a:stCxn id="179" idx="0"/>
              <a:endCxn id="174" idx="3"/>
            </p:cNvCxnSpPr>
            <p:nvPr/>
          </p:nvCxnSpPr>
          <p:spPr>
            <a:xfrm flipH="1" flipV="1">
              <a:off x="1243800" y="4827960"/>
              <a:ext cx="1054440" cy="1051560"/>
            </a:xfrm>
            <a:prstGeom prst="straightConnector1">
              <a:avLst/>
            </a:prstGeom>
            <a:ln w="28440">
              <a:solidFill>
                <a:srgbClr val="0066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86" name=""/>
            <p:cNvCxnSpPr>
              <a:stCxn id="178" idx="1"/>
              <a:endCxn id="174" idx="3"/>
            </p:cNvCxnSpPr>
            <p:nvPr/>
          </p:nvCxnSpPr>
          <p:spPr>
            <a:xfrm flipH="1" flipV="1">
              <a:off x="1243800" y="4828320"/>
              <a:ext cx="1714680" cy="670320"/>
            </a:xfrm>
            <a:prstGeom prst="straightConnector1">
              <a:avLst/>
            </a:prstGeom>
            <a:ln w="28440">
              <a:solidFill>
                <a:srgbClr val="800080"/>
              </a:solidFill>
              <a:miter/>
              <a:tailEnd len="med" type="triangle" w="med"/>
            </a:ln>
          </p:spPr>
        </p:cxnSp>
        <p:cxnSp>
          <p:nvCxnSpPr>
            <p:cNvPr id="187" name=""/>
            <p:cNvCxnSpPr>
              <a:stCxn id="175" idx="0"/>
              <a:endCxn id="176" idx="2"/>
            </p:cNvCxnSpPr>
            <p:nvPr/>
          </p:nvCxnSpPr>
          <p:spPr>
            <a:xfrm flipV="1">
              <a:off x="969840" y="4615920"/>
              <a:ext cx="1251360" cy="730080"/>
            </a:xfrm>
            <a:prstGeom prst="straightConnector1">
              <a:avLst/>
            </a:prstGeom>
            <a:ln w="28440">
              <a:solidFill>
                <a:srgbClr val="006b61"/>
              </a:solidFill>
              <a:miter/>
              <a:tailEnd len="med" type="triangle" w="med"/>
            </a:ln>
          </p:spPr>
        </p:cxn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5A72E-B76A-49DA-963C-76AC552C26D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 IDL for scientific computing requires capabilities not present in industry IDL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18680" y="1485720"/>
            <a:ext cx="8318520" cy="506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ts val="2798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dustry standard IDLs: CORBA, COM, RPC, …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798"/>
              </a:lnSpc>
              <a:spcBef>
                <a:spcPts val="3200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sired capabilities for a scientific computing ID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tributes for parallel semantic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nse dynamic multidimensional arrays and complex numb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indings for f77/f90 and “special” languages (e.g., Yorick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mall and easy-to-modify IDL for research purpo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ich inheritance model (Java-like interfaces and classes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 performance for same address-space method invo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A52FC-E10E-49D1-8E5B-1D85959A72B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31280" y="298440"/>
            <a:ext cx="82551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DL provides language interoperability for scientific componen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19040" y="1486080"/>
            <a:ext cx="8724960" cy="224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ts val="2798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DL is a “scientific” interface definition languag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modified industry IDL technology for the scientific domai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DL describes calling interfaces (e.g., CCA specification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r tools automatically generate code to “glue language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27600" y="3505320"/>
            <a:ext cx="5301360" cy="2527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</a:t>
            </a:r>
            <a:r>
              <a:rPr b="1" lang="en-US" sz="1600" spc="-1" strike="noStrike">
                <a:solidFill>
                  <a:srgbClr val="0c6d9c"/>
                </a:solidFill>
                <a:latin typeface="Courier New"/>
              </a:rPr>
              <a:t>ESI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rface </a:t>
            </a:r>
            <a:r>
              <a:rPr b="1" lang="en-US" sz="1600" spc="-1" strike="noStrike">
                <a:solidFill>
                  <a:srgbClr val="0c6d9c"/>
                </a:solidFill>
                <a:latin typeface="Courier New"/>
              </a:rPr>
              <a:t>Vector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void </a:t>
            </a:r>
            <a:r>
              <a:rPr b="1" lang="en-US" sz="1600" spc="-1" strike="noStrike">
                <a:solidFill>
                  <a:srgbClr val="0c6d9c"/>
                </a:solidFill>
                <a:latin typeface="Courier New"/>
              </a:rPr>
              <a:t>axpy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(in </a:t>
            </a:r>
            <a:r>
              <a:rPr b="1" lang="en-US" sz="1600" spc="-1" strike="noStrike">
                <a:solidFill>
                  <a:srgbClr val="0c6d9c"/>
                </a:solidFill>
                <a:latin typeface="Courier New"/>
              </a:rPr>
              <a:t>Vector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x, in double a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ouble </a:t>
            </a:r>
            <a:r>
              <a:rPr b="1" lang="en-US" sz="1600" spc="-1" strike="noStrike">
                <a:solidFill>
                  <a:srgbClr val="0c6d9c"/>
                </a:solidFill>
                <a:latin typeface="Courier New"/>
              </a:rPr>
              <a:t>do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(in </a:t>
            </a:r>
            <a:r>
              <a:rPr b="1" lang="en-US" sz="1600" spc="-1" strike="noStrike">
                <a:solidFill>
                  <a:srgbClr val="0c6d9c"/>
                </a:solidFill>
                <a:latin typeface="Courier New"/>
              </a:rPr>
              <a:t>Vector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rface </a:t>
            </a:r>
            <a:r>
              <a:rPr b="1" lang="en-US" sz="1600" spc="-1" strike="noStrike">
                <a:solidFill>
                  <a:srgbClr val="0c6d9c"/>
                </a:solidFill>
                <a:latin typeface="Courier New"/>
              </a:rPr>
              <a:t>Matrix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035040" y="4419720"/>
            <a:ext cx="788760" cy="703800"/>
          </a:xfrm>
          <a:prstGeom prst="rect">
            <a:avLst/>
          </a:prstGeom>
          <a:noFill/>
          <a:ln w="2844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b61"/>
                </a:solidFill>
                <a:latin typeface="Arial"/>
              </a:rPr>
              <a:t>SIDL</a:t>
            </a:r>
            <a:br>
              <a:rPr sz="2000"/>
            </a:br>
            <a:r>
              <a:rPr b="1" lang="en-US" sz="2000" spc="-1" strike="noStrike">
                <a:solidFill>
                  <a:srgbClr val="006b61"/>
                </a:solidFill>
                <a:latin typeface="Arial"/>
              </a:rPr>
              <a:t>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638680" y="4800600"/>
            <a:ext cx="381240" cy="0"/>
          </a:xfrm>
          <a:prstGeom prst="line">
            <a:avLst/>
          </a:prstGeom>
          <a:ln w="2844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7642080" y="3373560"/>
            <a:ext cx="1043280" cy="2826000"/>
            <a:chOff x="7642080" y="3373560"/>
            <a:chExt cx="1043280" cy="2826000"/>
          </a:xfrm>
        </p:grpSpPr>
        <p:sp>
          <p:nvSpPr>
            <p:cNvPr id="196" name=""/>
            <p:cNvSpPr/>
            <p:nvPr/>
          </p:nvSpPr>
          <p:spPr>
            <a:xfrm>
              <a:off x="7889040" y="3373560"/>
              <a:ext cx="54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f7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981920" y="397980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832880" y="4586400"/>
              <a:ext cx="663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++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642080" y="5192640"/>
              <a:ext cx="1043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868686"/>
                  </a:solidFill>
                  <a:latin typeface="Arial"/>
                </a:rPr>
                <a:t>Pyth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968240" y="5800680"/>
              <a:ext cx="54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868686"/>
                  </a:solidFill>
                  <a:latin typeface="Arial"/>
                </a:rPr>
                <a:t>f9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1" name=""/>
          <p:cNvSpPr/>
          <p:nvPr/>
        </p:nvSpPr>
        <p:spPr>
          <a:xfrm>
            <a:off x="6858000" y="4800600"/>
            <a:ext cx="914400" cy="0"/>
          </a:xfrm>
          <a:prstGeom prst="line">
            <a:avLst/>
          </a:prstGeom>
          <a:ln w="2844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6858000" y="3657240"/>
            <a:ext cx="990720" cy="1143000"/>
          </a:xfrm>
          <a:prstGeom prst="line">
            <a:avLst/>
          </a:prstGeom>
          <a:ln w="2844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6858000" y="4267080"/>
            <a:ext cx="990720" cy="533520"/>
          </a:xfrm>
          <a:prstGeom prst="line">
            <a:avLst/>
          </a:prstGeom>
          <a:ln w="2844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858000" y="4800600"/>
            <a:ext cx="762120" cy="533520"/>
          </a:xfrm>
          <a:prstGeom prst="line">
            <a:avLst/>
          </a:prstGeom>
          <a:ln w="2844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858000" y="4800600"/>
            <a:ext cx="914400" cy="1219320"/>
          </a:xfrm>
          <a:prstGeom prst="line">
            <a:avLst/>
          </a:prstGeom>
          <a:ln w="2844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680920" y="5562720"/>
            <a:ext cx="2759400" cy="337320"/>
          </a:xfrm>
          <a:prstGeom prst="rect">
            <a:avLst/>
          </a:prstGeom>
          <a:noFill/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33"/>
                </a:solidFill>
                <a:latin typeface="Arial"/>
              </a:rPr>
              <a:t>library writer develops th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726880" y="3124080"/>
            <a:ext cx="1746000" cy="337320"/>
          </a:xfrm>
          <a:prstGeom prst="rect">
            <a:avLst/>
          </a:prstGeom>
          <a:noFill/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33"/>
                </a:solidFill>
                <a:latin typeface="Arial"/>
              </a:rPr>
              <a:t>user runs this 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260040" y="6248520"/>
            <a:ext cx="1688040" cy="337320"/>
          </a:xfrm>
          <a:prstGeom prst="rect">
            <a:avLst/>
          </a:prstGeom>
          <a:noFill/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33"/>
                </a:solidFill>
                <a:latin typeface="Arial"/>
              </a:rPr>
              <a:t>… </a:t>
            </a:r>
            <a:r>
              <a:rPr b="1" lang="en-US" sz="1600" spc="-1" strike="noStrike">
                <a:solidFill>
                  <a:srgbClr val="ff0033"/>
                </a:solidFill>
                <a:latin typeface="Arial"/>
              </a:rPr>
              <a:t>and gets th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flipH="1">
            <a:off x="6400440" y="3581280"/>
            <a:ext cx="228600" cy="685800"/>
          </a:xfrm>
          <a:prstGeom prst="line">
            <a:avLst/>
          </a:prstGeom>
          <a:ln w="1260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V="1">
            <a:off x="6934320" y="3809880"/>
            <a:ext cx="1143000" cy="2362320"/>
          </a:xfrm>
          <a:prstGeom prst="line">
            <a:avLst/>
          </a:prstGeom>
          <a:ln w="1260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CDDE1-BDBB-4857-9040-BA65B571883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19040" y="304920"/>
            <a:ext cx="834408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DL incorporates ideas from Java and CORBA to describe scientific interfac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04920" y="1600200"/>
            <a:ext cx="8686800" cy="47559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ersion </a:t>
            </a:r>
            <a:r>
              <a:rPr b="1" lang="en-US" sz="1800" spc="-1" strike="noStrike">
                <a:solidFill>
                  <a:srgbClr val="006b61"/>
                </a:solidFill>
                <a:latin typeface="Courier New"/>
              </a:rPr>
              <a:t>Hypr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0.5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ersion </a:t>
            </a:r>
            <a:r>
              <a:rPr b="1" lang="en-US" sz="1800" spc="-1" strike="noStrike">
                <a:solidFill>
                  <a:srgbClr val="006b61"/>
                </a:solidFill>
                <a:latin typeface="Courier New"/>
              </a:rPr>
              <a:t>ESI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1.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mport </a:t>
            </a:r>
            <a:r>
              <a:rPr b="1" lang="en-US" sz="1800" spc="-1" strike="noStrike">
                <a:solidFill>
                  <a:srgbClr val="006b61"/>
                </a:solidFill>
                <a:latin typeface="Courier New"/>
              </a:rPr>
              <a:t>ESI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 </a:t>
            </a:r>
            <a:r>
              <a:rPr b="1" lang="en-US" sz="1800" spc="-1" strike="noStrike">
                <a:solidFill>
                  <a:srgbClr val="006b61"/>
                </a:solidFill>
                <a:latin typeface="Courier New"/>
              </a:rPr>
              <a:t>Hypr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erface </a:t>
            </a:r>
            <a:r>
              <a:rPr b="1" lang="en-US" sz="1800" spc="-1" strike="noStrike">
                <a:solidFill>
                  <a:srgbClr val="0c6d9c"/>
                </a:solidFill>
                <a:latin typeface="Courier New"/>
              </a:rPr>
              <a:t>Vecto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extends </a:t>
            </a:r>
            <a:r>
              <a:rPr b="1" lang="en-US" sz="1800" spc="-1" strike="noStrike">
                <a:solidFill>
                  <a:srgbClr val="0c6d9c"/>
                </a:solidFill>
                <a:latin typeface="Courier New"/>
              </a:rPr>
              <a:t>ESI.Vecto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ouble dot(in </a:t>
            </a:r>
            <a:r>
              <a:rPr b="1" lang="en-US" sz="1800" spc="-1" strike="noStrike">
                <a:solidFill>
                  <a:srgbClr val="0c6d9c"/>
                </a:solidFill>
                <a:latin typeface="Courier New"/>
              </a:rPr>
              <a:t>Vecto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 axpy(in double a, in </a:t>
            </a:r>
            <a:r>
              <a:rPr b="1" lang="en-US" sz="1800" spc="-1" strike="noStrike">
                <a:solidFill>
                  <a:srgbClr val="0c6d9c"/>
                </a:solidFill>
                <a:latin typeface="Courier New"/>
              </a:rPr>
              <a:t>Vecto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erface </a:t>
            </a:r>
            <a:r>
              <a:rPr b="1" lang="en-US" sz="1800" spc="-1" strike="noStrike">
                <a:solidFill>
                  <a:srgbClr val="0c6d9c"/>
                </a:solidFill>
                <a:latin typeface="Courier New"/>
              </a:rPr>
              <a:t>Matrix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 apply(out </a:t>
            </a:r>
            <a:r>
              <a:rPr b="1" lang="en-US" sz="1800" spc="-1" strike="noStrike">
                <a:solidFill>
                  <a:srgbClr val="0c6d9c"/>
                </a:solidFill>
                <a:latin typeface="Courier New"/>
              </a:rPr>
              <a:t>Vecto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x, in </a:t>
            </a:r>
            <a:r>
              <a:rPr b="1" lang="en-US" sz="1800" spc="-1" strike="noStrike">
                <a:solidFill>
                  <a:srgbClr val="0c6d9c"/>
                </a:solidFill>
                <a:latin typeface="Courier New"/>
              </a:rPr>
              <a:t>Vecto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lass </a:t>
            </a:r>
            <a:r>
              <a:rPr b="1" lang="en-US" sz="1800" spc="-1" strike="noStrike">
                <a:solidFill>
                  <a:srgbClr val="800080"/>
                </a:solidFill>
                <a:latin typeface="Courier New"/>
              </a:rPr>
              <a:t>SparseMatrix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implements </a:t>
            </a:r>
            <a:r>
              <a:rPr b="1" lang="en-US" sz="1800" spc="-1" strike="noStrike">
                <a:solidFill>
                  <a:srgbClr val="0c6d9c"/>
                </a:solidFill>
                <a:latin typeface="Courier New"/>
              </a:rPr>
              <a:t>Matrix, RowAddressib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 apply(out </a:t>
            </a:r>
            <a:r>
              <a:rPr b="1" lang="en-US" sz="1800" spc="-1" strike="noStrike">
                <a:solidFill>
                  <a:srgbClr val="0c6d9c"/>
                </a:solidFill>
                <a:latin typeface="Courier New"/>
              </a:rPr>
              <a:t>Vecto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x, in </a:t>
            </a:r>
            <a:r>
              <a:rPr b="1" lang="en-US" sz="1800" spc="-1" strike="noStrike">
                <a:solidFill>
                  <a:srgbClr val="0c6d9c"/>
                </a:solidFill>
                <a:latin typeface="Courier New"/>
              </a:rPr>
              <a:t>Vecto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864480" y="2057400"/>
            <a:ext cx="1707840" cy="1618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80"/>
                </a:solidFill>
                <a:latin typeface="Arial"/>
              </a:rPr>
              <a:t>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enum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33"/>
                </a:solidFill>
                <a:latin typeface="Arial"/>
              </a:rPr>
              <a:t>excep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c6d9c"/>
                </a:solidFill>
                <a:latin typeface="Arial"/>
              </a:rPr>
              <a:t>interf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b61"/>
                </a:solidFill>
                <a:latin typeface="Arial"/>
              </a:rPr>
              <a:t>pack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2CEC6-989C-4620-8D5C-6FD840AD389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28600" y="298440"/>
            <a:ext cx="868680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rs call automatically generated interface code completely unaware of SIDL tool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746280" y="183996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93600" y="2286000"/>
            <a:ext cx="4513320" cy="32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b61"/>
                </a:solidFill>
                <a:latin typeface="Arial"/>
              </a:rPr>
              <a:t>integer b, 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b61"/>
                </a:solidFill>
                <a:latin typeface="Arial"/>
              </a:rPr>
              <a:t>integer 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b61"/>
                </a:solidFill>
                <a:latin typeface="Arial"/>
              </a:rPr>
              <a:t>integer smg_sol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b61"/>
                </a:solidFill>
                <a:latin typeface="Arial"/>
              </a:rPr>
              <a:t>b = hypre_vector_NewVector(com, grid, stenci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b61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b61"/>
                </a:solidFill>
                <a:latin typeface="Arial"/>
              </a:rPr>
              <a:t>x = hypre_vector_NewVector(com, grid, stenci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b61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b61"/>
                </a:solidFill>
                <a:latin typeface="Arial"/>
              </a:rPr>
              <a:t>A = hypre_matrix_NewMatrix(com, grid, stenci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b61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b61"/>
                </a:solidFill>
                <a:latin typeface="Arial"/>
              </a:rPr>
              <a:t>smg_solver = hypre_smg_solver_new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b61"/>
                </a:solidFill>
                <a:latin typeface="Arial"/>
              </a:rPr>
              <a:t>call hypre_smg_solver_SetMaxIter(smg_solver, 1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b61"/>
                </a:solidFill>
                <a:latin typeface="Arial"/>
              </a:rPr>
              <a:t>call hypre_smg_solver_Solve(smg_solver, A, b, x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b61"/>
                </a:solidFill>
                <a:latin typeface="Arial"/>
              </a:rPr>
              <a:t>call hypre_smg_solver_Finalize(smg_solver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40400" y="2286000"/>
            <a:ext cx="4318560" cy="32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c6d9c"/>
                </a:solidFill>
                <a:latin typeface="Arial"/>
              </a:rPr>
              <a:t>hypre::vector b, x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c6d9c"/>
                </a:solidFill>
                <a:latin typeface="Arial"/>
              </a:rPr>
              <a:t>hypre::matrix A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c6d9c"/>
                </a:solidFill>
                <a:latin typeface="Arial"/>
              </a:rPr>
              <a:t>hypre::smg_solver smg_solver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c6d9c"/>
                </a:solidFill>
                <a:latin typeface="Arial"/>
              </a:rPr>
              <a:t>b = hypre::vector::NewVector(com, grid, stencil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c6d9c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c6d9c"/>
                </a:solidFill>
                <a:latin typeface="Arial"/>
              </a:rPr>
              <a:t>x = hypre::vector::NewVector(com, grid, stencil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c6d9c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c6d9c"/>
                </a:solidFill>
                <a:latin typeface="Arial"/>
              </a:rPr>
              <a:t>A = hypre::matrix::NewMatrix(com, grid, stencil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c6d9c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c6d9c"/>
                </a:solidFill>
                <a:latin typeface="Arial"/>
              </a:rPr>
              <a:t>smg_solver = hypre::smg_solver::New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c6d9c"/>
                </a:solidFill>
                <a:latin typeface="Arial"/>
              </a:rPr>
              <a:t>smg_solver.SetMaxIter(10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c6d9c"/>
                </a:solidFill>
                <a:latin typeface="Arial"/>
              </a:rPr>
              <a:t>smg_solver.Solve(A, b, x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c6d9c"/>
                </a:solidFill>
                <a:latin typeface="Arial"/>
              </a:rPr>
              <a:t>smg_solver.Finalize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72000" y="2286000"/>
            <a:ext cx="0" cy="327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422720" y="1676520"/>
            <a:ext cx="196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c6d9c"/>
                </a:solidFill>
                <a:uFillTx/>
                <a:latin typeface="Arial"/>
              </a:rPr>
              <a:t>C++ Test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511960" y="1676520"/>
            <a:ext cx="272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6b61"/>
                </a:solidFill>
                <a:uFillTx/>
                <a:latin typeface="Arial"/>
              </a:rPr>
              <a:t>Fortran 77 Test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5F113-95BD-409F-A122-D3F17A78DAD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esentation outlin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04640" y="1601280"/>
            <a:ext cx="8739360" cy="3884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ts val="3600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3600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E community activities (CCA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3600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nguage interoperability technology (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Babel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3600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onent type and software repository (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lexandri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3600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earch issues in parallel component communic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3600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ep thoughts..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113800"/>
            <a:ext cx="6934320" cy="1008720"/>
          </a:xfrm>
          <a:prstGeom prst="rect">
            <a:avLst/>
          </a:prstGeom>
          <a:noFill/>
          <a:ln w="1908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c6d9c"/>
                </a:solidFill>
                <a:uFillTx/>
                <a:latin typeface="Arial"/>
              </a:rPr>
              <a:t>Goal:</a:t>
            </a:r>
            <a:r>
              <a:rPr b="1" lang="en-US" sz="2000" spc="-1" strike="noStrike">
                <a:solidFill>
                  <a:srgbClr val="0c6d9c"/>
                </a:solidFill>
                <a:latin typeface="Arial"/>
              </a:rPr>
              <a:t> Provide an overview of the approach, techniques,  and tools we are exploring in adopting software component technology for scientific compu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AF47B-7CBA-4982-9807-596F0DB69C9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DL version managemen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18680" y="1486080"/>
            <a:ext cx="8318520" cy="171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ts val="2798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mple version management scheme for SIDL typ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symbols are assigned a fixed version numb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DL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vers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keyword requests specified version (or latest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s multiple versions of specs (e.g., ESI 0.5, ESI 0.5.1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0">
              <a:lnSpc>
                <a:spcPts val="2798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441440" y="3429000"/>
            <a:ext cx="6490080" cy="2837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33"/>
                </a:solidFill>
                <a:latin typeface="Courier New"/>
              </a:rPr>
              <a:t>version ESI 0.5.1;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// access ESI spec v0.5.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33"/>
                </a:solidFill>
                <a:latin typeface="Courier New"/>
              </a:rPr>
              <a:t>version HYPRE 0.7;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// define HYPRE spec v0.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 HYPR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// define v0.7 of HYPRE.Vector using v0.5.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// of the ESI.Vector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erface Vector extends ESI.Vector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92BDA-860E-4481-A5A2-293FC189748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nguage support in the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Babel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compile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19040" y="1485720"/>
            <a:ext cx="8724960" cy="506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ts val="2798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, f77, C++ mostly finished using old SIDL gramma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roximately 500 test cases probe imple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d by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hypr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eam for exploratory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798"/>
              </a:lnSpc>
              <a:spcBef>
                <a:spcPts val="1800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urrently migrating system to use new gramma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798"/>
              </a:lnSpc>
              <a:spcBef>
                <a:spcPts val="1800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ava, Python, and Yorick support nex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ython and Yorick are scripting languages (Yorick from LLNL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pe to begin development in October timefra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ould be quick” because of C interface support in langu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798"/>
              </a:lnSpc>
              <a:spcBef>
                <a:spcPts val="1800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90 and MATLAB will (hopefully) begin early next yea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0">
              <a:lnSpc>
                <a:spcPts val="2798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FF829-659C-476B-8F98-A873444AA83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42004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are collaborating with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ypr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to explore SIDL technology in a scientific librar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19040" y="1486080"/>
            <a:ext cx="8724960" cy="491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ts val="2798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llaborators: Andy Cleary, Jeff Painter, Cal Ribbe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798"/>
              </a:lnSpc>
              <a:spcBef>
                <a:spcPts val="24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DL interface description file generated for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hyp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roximately 30 interfaces and classes for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hypr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ubs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abe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ools to generate glue code for object suppor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798"/>
              </a:lnSpc>
              <a:spcBef>
                <a:spcPts val="24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nefits of SIDL use in the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hypr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projec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omatic support for object-oriented features in 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tran capabilities through SIDL in upcoming ver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n to integrate existing C, Fortran, and C++ in one libra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DL is a useful language for discussing software desig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ing better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hypr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esign based on SIDL OO suppor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st overhead in same-address space too small to measu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D3C98-B6D9-43E2-9E62-5799AAA2FAC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esentation outlin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04640" y="1601280"/>
            <a:ext cx="8739360" cy="3884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ts val="3600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77777"/>
                </a:solidFill>
                <a:latin typeface="Arial"/>
              </a:rPr>
              <a:t>Motiv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3600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77777"/>
                </a:solidFill>
                <a:latin typeface="Arial"/>
              </a:rPr>
              <a:t>DOE community activities (CCA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3600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77777"/>
                </a:solidFill>
                <a:latin typeface="Arial"/>
              </a:rPr>
              <a:t>Language interoperability technology (</a:t>
            </a:r>
            <a:r>
              <a:rPr b="1" i="1" lang="en-US" sz="2400" spc="-1" strike="noStrike">
                <a:solidFill>
                  <a:srgbClr val="777777"/>
                </a:solidFill>
                <a:latin typeface="Arial"/>
              </a:rPr>
              <a:t>Babel</a:t>
            </a:r>
            <a:r>
              <a:rPr b="1" lang="en-US" sz="2400" spc="-1" strike="noStrike">
                <a:solidFill>
                  <a:srgbClr val="777777"/>
                </a:solidFill>
                <a:latin typeface="Arial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3600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onent type and software repository (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lexandri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3600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77777"/>
                </a:solidFill>
                <a:latin typeface="Arial"/>
              </a:rPr>
              <a:t>Research issues in parallel component communic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3600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77777"/>
                </a:solidFill>
                <a:latin typeface="Arial"/>
              </a:rPr>
              <a:t>Conclus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84DD4-4D1E-4E37-A86D-EB0A371DF4C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27080" y="298440"/>
            <a:ext cx="886464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are developing a web-based architecture to simplify access by scientists and tools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51920" y="4647960"/>
            <a:ext cx="8991720" cy="1904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ts val="2798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ientists and library developers must hav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as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ccess to our technology; otherwise, they simply will not use i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798"/>
              </a:lnSpc>
              <a:spcBef>
                <a:spcPts val="24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r web-based deployment lowers the “threshold of pain” to adopting component technolog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765720" y="1676520"/>
            <a:ext cx="7616160" cy="2927880"/>
            <a:chOff x="765720" y="1676520"/>
            <a:chExt cx="7616160" cy="2927880"/>
          </a:xfrm>
        </p:grpSpPr>
        <p:grpSp>
          <p:nvGrpSpPr>
            <p:cNvPr id="233" name=""/>
            <p:cNvGrpSpPr/>
            <p:nvPr/>
          </p:nvGrpSpPr>
          <p:grpSpPr>
            <a:xfrm>
              <a:off x="765720" y="1676520"/>
              <a:ext cx="1002240" cy="1023120"/>
              <a:chOff x="765720" y="1676520"/>
              <a:chExt cx="1002240" cy="102312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1114560" y="1676520"/>
                <a:ext cx="304560" cy="609480"/>
                <a:chOff x="1114560" y="1676520"/>
                <a:chExt cx="304560" cy="609480"/>
              </a:xfrm>
            </p:grpSpPr>
            <p:sp>
              <p:nvSpPr>
                <p:cNvPr id="235" name=""/>
                <p:cNvSpPr/>
                <p:nvPr/>
              </p:nvSpPr>
              <p:spPr>
                <a:xfrm>
                  <a:off x="1152360" y="1676520"/>
                  <a:ext cx="228240" cy="228600"/>
                </a:xfrm>
                <a:prstGeom prst="ellipse">
                  <a:avLst/>
                </a:prstGeom>
                <a:noFill/>
                <a:ln w="19080">
                  <a:solidFill>
                    <a:srgbClr val="8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1266480" y="1905120"/>
                  <a:ext cx="0" cy="228600"/>
                </a:xfrm>
                <a:prstGeom prst="line">
                  <a:avLst/>
                </a:prstGeom>
                <a:ln w="19080">
                  <a:solidFill>
                    <a:srgbClr val="8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1114560" y="1981440"/>
                  <a:ext cx="304560" cy="0"/>
                </a:xfrm>
                <a:prstGeom prst="line">
                  <a:avLst/>
                </a:prstGeom>
                <a:ln w="19080">
                  <a:solidFill>
                    <a:srgbClr val="8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 flipH="1">
                  <a:off x="1114560" y="2133720"/>
                  <a:ext cx="151920" cy="152280"/>
                </a:xfrm>
                <a:prstGeom prst="line">
                  <a:avLst/>
                </a:prstGeom>
                <a:ln w="19080">
                  <a:solidFill>
                    <a:srgbClr val="8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1266480" y="2133720"/>
                  <a:ext cx="152280" cy="152280"/>
                </a:xfrm>
                <a:prstGeom prst="line">
                  <a:avLst/>
                </a:prstGeom>
                <a:ln w="19080">
                  <a:solidFill>
                    <a:srgbClr val="8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0" name=""/>
              <p:cNvSpPr/>
              <p:nvPr/>
            </p:nvSpPr>
            <p:spPr>
              <a:xfrm>
                <a:off x="765720" y="2362320"/>
                <a:ext cx="10022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800080"/>
                    </a:solidFill>
                    <a:latin typeface="Arial"/>
                  </a:rPr>
                  <a:t>scientis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1" name=""/>
            <p:cNvGrpSpPr/>
            <p:nvPr/>
          </p:nvGrpSpPr>
          <p:grpSpPr>
            <a:xfrm>
              <a:off x="991800" y="3156120"/>
              <a:ext cx="551160" cy="1006920"/>
              <a:chOff x="991800" y="3156120"/>
              <a:chExt cx="551160" cy="1006920"/>
            </a:xfrm>
          </p:grpSpPr>
          <p:sp>
            <p:nvSpPr>
              <p:cNvPr id="242" name=""/>
              <p:cNvSpPr/>
              <p:nvPr/>
            </p:nvSpPr>
            <p:spPr>
              <a:xfrm>
                <a:off x="1038240" y="3156120"/>
                <a:ext cx="457200" cy="609120"/>
              </a:xfrm>
              <a:prstGeom prst="rect">
                <a:avLst/>
              </a:prstGeom>
              <a:noFill/>
              <a:ln w="19080">
                <a:solidFill>
                  <a:srgbClr val="0c6d9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1114560" y="3232080"/>
                <a:ext cx="75960" cy="151920"/>
              </a:xfrm>
              <a:prstGeom prst="rect">
                <a:avLst/>
              </a:prstGeom>
              <a:noFill/>
              <a:ln w="12600">
                <a:solidFill>
                  <a:srgbClr val="ff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1190520" y="3536640"/>
                <a:ext cx="152640" cy="75960"/>
              </a:xfrm>
              <a:prstGeom prst="rect">
                <a:avLst/>
              </a:prstGeom>
              <a:noFill/>
              <a:ln w="12600">
                <a:solidFill>
                  <a:srgbClr val="ff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1190520" y="3384360"/>
                <a:ext cx="76320" cy="151920"/>
              </a:xfrm>
              <a:prstGeom prst="line">
                <a:avLst/>
              </a:prstGeom>
              <a:ln w="12600">
                <a:solidFill>
                  <a:srgbClr val="ff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991800" y="3825720"/>
                <a:ext cx="551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c6d9c"/>
                    </a:solidFill>
                    <a:latin typeface="Arial"/>
                  </a:rPr>
                  <a:t>tool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7" name=""/>
            <p:cNvSpPr/>
            <p:nvPr/>
          </p:nvSpPr>
          <p:spPr>
            <a:xfrm>
              <a:off x="1752480" y="2133720"/>
              <a:ext cx="83844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flipH="1">
              <a:off x="1676520" y="3048120"/>
              <a:ext cx="914400" cy="380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9" name=""/>
            <p:cNvGrpSpPr/>
            <p:nvPr/>
          </p:nvGrpSpPr>
          <p:grpSpPr>
            <a:xfrm>
              <a:off x="2669760" y="2590920"/>
              <a:ext cx="1239840" cy="565920"/>
              <a:chOff x="2669760" y="2590920"/>
              <a:chExt cx="1239840" cy="565920"/>
            </a:xfrm>
          </p:grpSpPr>
          <p:sp>
            <p:nvSpPr>
              <p:cNvPr id="250" name=""/>
              <p:cNvSpPr/>
              <p:nvPr/>
            </p:nvSpPr>
            <p:spPr>
              <a:xfrm>
                <a:off x="2669760" y="2819520"/>
                <a:ext cx="1239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33"/>
                    </a:solidFill>
                    <a:latin typeface="Arial"/>
                  </a:rPr>
                  <a:t>web serve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251" name="asf_logo" descr=""/>
              <p:cNvPicPr/>
              <p:nvPr/>
            </p:nvPicPr>
            <p:blipFill>
              <a:blip r:embed="rId1"/>
              <a:stretch/>
            </p:blipFill>
            <p:spPr>
              <a:xfrm>
                <a:off x="2819160" y="2590920"/>
                <a:ext cx="990720" cy="3272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52" name=""/>
            <p:cNvSpPr/>
            <p:nvPr/>
          </p:nvSpPr>
          <p:spPr>
            <a:xfrm>
              <a:off x="3962520" y="281952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3" name=""/>
            <p:cNvGrpSpPr/>
            <p:nvPr/>
          </p:nvGrpSpPr>
          <p:grpSpPr>
            <a:xfrm>
              <a:off x="5105520" y="2362320"/>
              <a:ext cx="1143000" cy="838080"/>
              <a:chOff x="5105520" y="2362320"/>
              <a:chExt cx="1143000" cy="838080"/>
            </a:xfrm>
          </p:grpSpPr>
          <p:sp>
            <p:nvSpPr>
              <p:cNvPr id="254" name=""/>
              <p:cNvSpPr/>
              <p:nvPr/>
            </p:nvSpPr>
            <p:spPr>
              <a:xfrm>
                <a:off x="5105520" y="2362320"/>
                <a:ext cx="1143000" cy="838080"/>
              </a:xfrm>
              <a:prstGeom prst="flowChartMultidocument">
                <a:avLst/>
              </a:prstGeom>
              <a:noFill/>
              <a:ln w="1908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5107680" y="2514600"/>
                <a:ext cx="935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66cc"/>
                    </a:solidFill>
                    <a:latin typeface="Arial"/>
                  </a:rPr>
                  <a:t>SIDL tool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66cc"/>
                    </a:solidFill>
                    <a:latin typeface="Arial"/>
                  </a:rPr>
                  <a:t>servlet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66cc"/>
                    </a:solidFill>
                    <a:latin typeface="Arial"/>
                  </a:rPr>
                  <a:t>JS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6" name=""/>
            <p:cNvGrpSpPr/>
            <p:nvPr/>
          </p:nvGrpSpPr>
          <p:grpSpPr>
            <a:xfrm>
              <a:off x="6781680" y="3276720"/>
              <a:ext cx="1600200" cy="1327680"/>
              <a:chOff x="6781680" y="3276720"/>
              <a:chExt cx="1600200" cy="1327680"/>
            </a:xfrm>
          </p:grpSpPr>
          <p:sp>
            <p:nvSpPr>
              <p:cNvPr id="257" name=""/>
              <p:cNvSpPr/>
              <p:nvPr/>
            </p:nvSpPr>
            <p:spPr>
              <a:xfrm>
                <a:off x="6781680" y="4267080"/>
                <a:ext cx="1600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6b61"/>
                    </a:solidFill>
                    <a:latin typeface="Arial"/>
                  </a:rPr>
                  <a:t>SQL databas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7048440" y="3276720"/>
                <a:ext cx="1067040" cy="990360"/>
              </a:xfrm>
              <a:prstGeom prst="can">
                <a:avLst>
                  <a:gd name="adj" fmla="val 25000"/>
                </a:avLst>
              </a:prstGeom>
              <a:noFill/>
              <a:ln w="19080">
                <a:solidFill>
                  <a:srgbClr val="006b6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9" name=""/>
            <p:cNvSpPr/>
            <p:nvPr/>
          </p:nvSpPr>
          <p:spPr>
            <a:xfrm>
              <a:off x="2060640" y="3276720"/>
              <a:ext cx="609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c6d9c"/>
                  </a:solidFill>
                  <a:latin typeface="Arial"/>
                </a:rPr>
                <a:t>XM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982880" y="1676520"/>
              <a:ext cx="766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00080"/>
                  </a:solidFill>
                  <a:latin typeface="Arial"/>
                </a:rPr>
                <a:t>web</a:t>
              </a:r>
              <a:br>
                <a:rPr sz="1600"/>
              </a:br>
              <a:r>
                <a:rPr b="1" lang="en-US" sz="1600" spc="-1" strike="noStrike">
                  <a:solidFill>
                    <a:srgbClr val="800080"/>
                  </a:solidFill>
                  <a:latin typeface="Arial"/>
                </a:rPr>
                <a:t>pag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248520" y="3124080"/>
              <a:ext cx="68580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62" name="babel_dropshadow" descr=""/>
            <p:cNvPicPr/>
            <p:nvPr/>
          </p:nvPicPr>
          <p:blipFill>
            <a:blip r:embed="rId2"/>
            <a:stretch/>
          </p:blipFill>
          <p:spPr>
            <a:xfrm>
              <a:off x="6934320" y="1905120"/>
              <a:ext cx="1295280" cy="47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3" name=""/>
            <p:cNvSpPr/>
            <p:nvPr/>
          </p:nvSpPr>
          <p:spPr>
            <a:xfrm flipV="1">
              <a:off x="6324480" y="2133720"/>
              <a:ext cx="5335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4B7A2-9D69-4344-8208-BBF4859797EC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79000" y="298440"/>
            <a:ext cx="855972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Alexandria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is a web-based repository for component software and type descriptio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18680" y="1486080"/>
            <a:ext cx="8318520" cy="5371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ts val="2798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Alexandria repository supports..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DL type descriptions for libraries and componen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brary and component implement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interface to the Babel language interoperability too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6" name=""/>
          <p:cNvGraphicFramePr/>
          <p:nvPr/>
        </p:nvGraphicFramePr>
        <p:xfrm>
          <a:off x="2209680" y="2971800"/>
          <a:ext cx="5410440" cy="379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2971800"/>
                    <a:ext cx="5410440" cy="379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F98FF-79DB-45A7-83C2-3FDECDDD9C6B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55680" y="298440"/>
            <a:ext cx="840744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Babel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parser converts SIDL to XML that is stored in the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Alexandria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repository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18680" y="1485720"/>
            <a:ext cx="8318520" cy="506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ts val="2798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DL is used to generate XML interface information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798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type description used to generate glue co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0" name=""/>
          <p:cNvGrpSpPr/>
          <p:nvPr/>
        </p:nvGrpSpPr>
        <p:grpSpPr>
          <a:xfrm>
            <a:off x="1225800" y="2133720"/>
            <a:ext cx="6741360" cy="1404000"/>
            <a:chOff x="1225800" y="2133720"/>
            <a:chExt cx="6741360" cy="1404000"/>
          </a:xfrm>
        </p:grpSpPr>
        <p:sp>
          <p:nvSpPr>
            <p:cNvPr id="271" name=""/>
            <p:cNvSpPr/>
            <p:nvPr/>
          </p:nvSpPr>
          <p:spPr>
            <a:xfrm>
              <a:off x="3737520" y="2360520"/>
              <a:ext cx="959400" cy="398880"/>
            </a:xfrm>
            <a:prstGeom prst="rect">
              <a:avLst/>
            </a:prstGeom>
            <a:noFill/>
            <a:ln w="28440">
              <a:solidFill>
                <a:srgbClr val="0c6d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c6d9c"/>
                  </a:solidFill>
                  <a:latin typeface="Arial"/>
                </a:rPr>
                <a:t>pars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225800" y="2422440"/>
              <a:ext cx="1869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url://interface.sid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3" name=""/>
            <p:cNvGrpSpPr/>
            <p:nvPr/>
          </p:nvGrpSpPr>
          <p:grpSpPr>
            <a:xfrm>
              <a:off x="5334120" y="2133720"/>
              <a:ext cx="2633040" cy="914400"/>
              <a:chOff x="5334120" y="2133720"/>
              <a:chExt cx="2633040" cy="914400"/>
            </a:xfrm>
          </p:grpSpPr>
          <p:sp>
            <p:nvSpPr>
              <p:cNvPr id="274" name=""/>
              <p:cNvSpPr/>
              <p:nvPr/>
            </p:nvSpPr>
            <p:spPr>
              <a:xfrm>
                <a:off x="5334120" y="2133720"/>
                <a:ext cx="304920" cy="380880"/>
              </a:xfrm>
              <a:prstGeom prst="can">
                <a:avLst>
                  <a:gd name="adj" fmla="val 25000"/>
                </a:avLst>
              </a:prstGeom>
              <a:noFill/>
              <a:ln w="25560">
                <a:solidFill>
                  <a:srgbClr val="006b6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5334120" y="2666880"/>
                <a:ext cx="304920" cy="381240"/>
              </a:xfrm>
              <a:prstGeom prst="can">
                <a:avLst>
                  <a:gd name="adj" fmla="val 25000"/>
                </a:avLst>
              </a:prstGeom>
              <a:noFill/>
              <a:ln w="25560">
                <a:solidFill>
                  <a:srgbClr val="006b6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5945400" y="2408400"/>
                <a:ext cx="202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6b61"/>
                    </a:solidFill>
                    <a:latin typeface="Arial"/>
                  </a:rPr>
                  <a:t>type repositorie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5715000" y="2133720"/>
                <a:ext cx="152640" cy="914400"/>
              </a:xfrm>
              <a:custGeom>
                <a:avLst/>
                <a:gdLst>
                  <a:gd name="textAreaLeft" fmla="*/ 0 w 152640"/>
                  <a:gd name="textAreaRight" fmla="*/ 55080 w 152640"/>
                  <a:gd name="textAreaTop" fmla="*/ 23760 h 914400"/>
                  <a:gd name="textAreaBottom" fmla="*/ 890640 h 9144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19080">
                <a:solidFill>
                  <a:srgbClr val="006b6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8" name=""/>
            <p:cNvSpPr/>
            <p:nvPr/>
          </p:nvSpPr>
          <p:spPr>
            <a:xfrm>
              <a:off x="3124440" y="2590920"/>
              <a:ext cx="457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 flipV="1">
              <a:off x="4876920" y="2361960"/>
              <a:ext cx="380880" cy="152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4876920" y="2666880"/>
              <a:ext cx="380880" cy="152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3283200" y="3200400"/>
              <a:ext cx="1869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url://interface.xm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191120" y="2895480"/>
              <a:ext cx="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3" name=""/>
          <p:cNvSpPr/>
          <p:nvPr/>
        </p:nvSpPr>
        <p:spPr>
          <a:xfrm>
            <a:off x="2556000" y="4876920"/>
            <a:ext cx="533160" cy="609480"/>
          </a:xfrm>
          <a:prstGeom prst="can">
            <a:avLst>
              <a:gd name="adj" fmla="val 25000"/>
            </a:avLst>
          </a:prstGeom>
          <a:noFill/>
          <a:ln w="2844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906920" y="4343400"/>
            <a:ext cx="183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b61"/>
                </a:solidFill>
                <a:latin typeface="Arial"/>
              </a:rPr>
              <a:t>type reposi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971520" y="5257800"/>
            <a:ext cx="2020320" cy="398880"/>
          </a:xfrm>
          <a:prstGeom prst="rect">
            <a:avLst/>
          </a:prstGeom>
          <a:noFill/>
          <a:ln w="1908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cc"/>
                </a:solidFill>
                <a:latin typeface="Arial"/>
              </a:rPr>
              <a:t>code gen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276720" y="518148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354480" y="4876920"/>
            <a:ext cx="60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M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6554160" y="4572000"/>
            <a:ext cx="613440" cy="1892160"/>
            <a:chOff x="6554160" y="4572000"/>
            <a:chExt cx="613440" cy="1892160"/>
          </a:xfrm>
        </p:grpSpPr>
        <p:sp>
          <p:nvSpPr>
            <p:cNvPr id="289" name=""/>
            <p:cNvSpPr/>
            <p:nvPr/>
          </p:nvSpPr>
          <p:spPr>
            <a:xfrm>
              <a:off x="6606000" y="5079960"/>
              <a:ext cx="50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f7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554160" y="5587920"/>
              <a:ext cx="613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+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688440" y="457200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566760" y="6095880"/>
              <a:ext cx="37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 flipV="1">
            <a:off x="6095880" y="4800240"/>
            <a:ext cx="457200" cy="685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 flipV="1">
            <a:off x="6095880" y="52574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6095880" y="548640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6095880" y="5486400"/>
            <a:ext cx="457200" cy="685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556000" y="5791320"/>
            <a:ext cx="533160" cy="609480"/>
          </a:xfrm>
          <a:prstGeom prst="can">
            <a:avLst>
              <a:gd name="adj" fmla="val 25000"/>
            </a:avLst>
          </a:prstGeom>
          <a:noFill/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 flipV="1">
            <a:off x="3276720" y="5562720"/>
            <a:ext cx="45720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4480" y="5791320"/>
            <a:ext cx="60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M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448280" y="6095880"/>
            <a:ext cx="1643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80"/>
                </a:solidFill>
                <a:latin typeface="Arial"/>
              </a:rPr>
              <a:t>machine</a:t>
            </a:r>
            <a:br>
              <a:rPr sz="1800"/>
            </a:br>
            <a:r>
              <a:rPr b="1" lang="en-US" sz="1800" spc="-1" strike="noStrike">
                <a:solidFill>
                  <a:srgbClr val="800080"/>
                </a:solidFill>
                <a:latin typeface="Arial"/>
              </a:rPr>
              <a:t>configur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7E881-02F5-492D-8E03-3F0E3B2AAFCC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ample XML file for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ypre.Vecto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493200" y="1752480"/>
            <a:ext cx="8227440" cy="4474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?xml version="1.0" encoding="UTF-8”?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!DOCTYPE Symbol PUBLIC “-//CCA//SIDL Symbol DTD v1.0//EN” “SIDL.dtd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Symbol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SymbolName name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Hypre.Vector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" version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1.0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" /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Metadata date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20000816 08:47:22 PDT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"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MetadataEntry key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ource-url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" value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ile:/home/skohn/hypre.sidl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" /&gt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/Metadata&gt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Comment /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Interfac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ExtendsBlock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SymbolName name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Hypre.Object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" version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1.0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" /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/ExtendsBlock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AllParentInterfaces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SymbolName name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IDL.Interface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" version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0.5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" /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SymbolName name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Hypre.Object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" version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1.0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" /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/AllParentInterfaces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MethodsBlock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Method communication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ormal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" copy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alse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" definition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abstract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" name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Axpy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"&gt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/Method&gt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/MethodsBlock&gt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/Interface&gt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/Symbol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E19F2-4562-4862-8A31-E8F1711C0017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esentation outlin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04640" y="1601280"/>
            <a:ext cx="8739360" cy="3884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ts val="3600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77777"/>
                </a:solidFill>
                <a:latin typeface="Arial"/>
              </a:rPr>
              <a:t>Motiv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3600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77777"/>
                </a:solidFill>
                <a:latin typeface="Arial"/>
              </a:rPr>
              <a:t>DOE community activities (CCA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3600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77777"/>
                </a:solidFill>
                <a:latin typeface="Arial"/>
              </a:rPr>
              <a:t>Language interoperability technology (</a:t>
            </a:r>
            <a:r>
              <a:rPr b="1" i="1" lang="en-US" sz="2400" spc="-1" strike="noStrike">
                <a:solidFill>
                  <a:srgbClr val="777777"/>
                </a:solidFill>
                <a:latin typeface="Arial"/>
              </a:rPr>
              <a:t>Babel</a:t>
            </a:r>
            <a:r>
              <a:rPr b="1" lang="en-US" sz="2400" spc="-1" strike="noStrike">
                <a:solidFill>
                  <a:srgbClr val="777777"/>
                </a:solidFill>
                <a:latin typeface="Arial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3600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77777"/>
                </a:solidFill>
                <a:latin typeface="Arial"/>
              </a:rPr>
              <a:t>Component type and software repository (</a:t>
            </a:r>
            <a:r>
              <a:rPr b="1" i="1" lang="en-US" sz="2400" spc="-1" strike="noStrike">
                <a:solidFill>
                  <a:srgbClr val="777777"/>
                </a:solidFill>
                <a:latin typeface="Arial"/>
              </a:rPr>
              <a:t>Alexandria</a:t>
            </a:r>
            <a:r>
              <a:rPr b="1" lang="en-US" sz="2400" spc="-1" strike="noStrike">
                <a:solidFill>
                  <a:srgbClr val="777777"/>
                </a:solidFill>
                <a:latin typeface="Arial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3600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earch issues in parallel component communic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3600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77777"/>
                </a:solidFill>
                <a:latin typeface="Arial"/>
              </a:rPr>
              <a:t>Conclus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F6D5E-32A1-4684-B0C4-64B076A0C8C1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30592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arallel redistribution of complex data structures between componen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19040" y="1485720"/>
            <a:ext cx="8724960" cy="5143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ts val="2798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allel data redistribution for non-local connec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 connect parallel application to visualization serv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not automatically redistribute complex data structur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ust support redistribution of arbitrary data structur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798"/>
              </a:lnSpc>
              <a:spcBef>
                <a:spcPts val="240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pproach - modify SIDL and special interface suppo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7" name=""/>
          <p:cNvGrpSpPr/>
          <p:nvPr/>
        </p:nvGrpSpPr>
        <p:grpSpPr>
          <a:xfrm>
            <a:off x="2666880" y="3200400"/>
            <a:ext cx="3810240" cy="2438280"/>
            <a:chOff x="2666880" y="3200400"/>
            <a:chExt cx="3810240" cy="2438280"/>
          </a:xfrm>
        </p:grpSpPr>
        <p:sp>
          <p:nvSpPr>
            <p:cNvPr id="308" name=""/>
            <p:cNvSpPr/>
            <p:nvPr/>
          </p:nvSpPr>
          <p:spPr>
            <a:xfrm>
              <a:off x="2666880" y="3200400"/>
              <a:ext cx="914400" cy="76176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9" name=""/>
            <p:cNvGrpSpPr/>
            <p:nvPr/>
          </p:nvGrpSpPr>
          <p:grpSpPr>
            <a:xfrm>
              <a:off x="2819160" y="3352680"/>
              <a:ext cx="609480" cy="457200"/>
              <a:chOff x="2819160" y="3352680"/>
              <a:chExt cx="609480" cy="457200"/>
            </a:xfrm>
          </p:grpSpPr>
          <p:sp>
            <p:nvSpPr>
              <p:cNvPr id="310" name=""/>
              <p:cNvSpPr/>
              <p:nvPr/>
            </p:nvSpPr>
            <p:spPr>
              <a:xfrm flipH="1">
                <a:off x="2895480" y="3352680"/>
                <a:ext cx="228240" cy="228600"/>
              </a:xfrm>
              <a:prstGeom prst="line">
                <a:avLst/>
              </a:prstGeom>
              <a:ln w="19080">
                <a:solidFill>
                  <a:srgbClr val="ff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2895480" y="3581280"/>
                <a:ext cx="151920" cy="76320"/>
              </a:xfrm>
              <a:prstGeom prst="line">
                <a:avLst/>
              </a:prstGeom>
              <a:ln w="19080">
                <a:solidFill>
                  <a:srgbClr val="ff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124080" y="3352680"/>
                <a:ext cx="151920" cy="152280"/>
              </a:xfrm>
              <a:prstGeom prst="line">
                <a:avLst/>
              </a:prstGeom>
              <a:ln w="19080">
                <a:solidFill>
                  <a:srgbClr val="ff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flipH="1">
                <a:off x="3047760" y="3504960"/>
                <a:ext cx="228240" cy="152640"/>
              </a:xfrm>
              <a:prstGeom prst="line">
                <a:avLst/>
              </a:prstGeom>
              <a:ln w="19080">
                <a:solidFill>
                  <a:srgbClr val="ff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>
                <a:off x="2971800" y="3657600"/>
                <a:ext cx="75600" cy="152280"/>
              </a:xfrm>
              <a:prstGeom prst="line">
                <a:avLst/>
              </a:prstGeom>
              <a:ln w="19080">
                <a:solidFill>
                  <a:srgbClr val="ff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flipH="1">
                <a:off x="2819160" y="3581280"/>
                <a:ext cx="75960" cy="228600"/>
              </a:xfrm>
              <a:prstGeom prst="line">
                <a:avLst/>
              </a:prstGeom>
              <a:ln w="19080">
                <a:solidFill>
                  <a:srgbClr val="ff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2819520" y="3809880"/>
                <a:ext cx="152280" cy="0"/>
              </a:xfrm>
              <a:prstGeom prst="line">
                <a:avLst/>
              </a:prstGeom>
              <a:ln w="19080">
                <a:solidFill>
                  <a:srgbClr val="ff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3047760" y="3657600"/>
                <a:ext cx="152280" cy="75960"/>
              </a:xfrm>
              <a:prstGeom prst="line">
                <a:avLst/>
              </a:prstGeom>
              <a:ln w="19080">
                <a:solidFill>
                  <a:srgbClr val="ff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3276360" y="3504960"/>
                <a:ext cx="152280" cy="76320"/>
              </a:xfrm>
              <a:prstGeom prst="line">
                <a:avLst/>
              </a:prstGeom>
              <a:ln w="19080">
                <a:solidFill>
                  <a:srgbClr val="ff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flipH="1">
                <a:off x="3200400" y="3581280"/>
                <a:ext cx="228240" cy="152280"/>
              </a:xfrm>
              <a:prstGeom prst="line">
                <a:avLst/>
              </a:prstGeom>
              <a:ln w="19080">
                <a:solidFill>
                  <a:srgbClr val="ff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0" name=""/>
            <p:cNvSpPr/>
            <p:nvPr/>
          </p:nvSpPr>
          <p:spPr>
            <a:xfrm>
              <a:off x="2666880" y="4038480"/>
              <a:ext cx="914400" cy="762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1" name=""/>
            <p:cNvGrpSpPr/>
            <p:nvPr/>
          </p:nvGrpSpPr>
          <p:grpSpPr>
            <a:xfrm>
              <a:off x="2933640" y="4228920"/>
              <a:ext cx="380880" cy="381240"/>
              <a:chOff x="2933640" y="4228920"/>
              <a:chExt cx="380880" cy="381240"/>
            </a:xfrm>
          </p:grpSpPr>
          <p:sp>
            <p:nvSpPr>
              <p:cNvPr id="322" name=""/>
              <p:cNvSpPr/>
              <p:nvPr/>
            </p:nvSpPr>
            <p:spPr>
              <a:xfrm flipH="1">
                <a:off x="3161880" y="4305240"/>
                <a:ext cx="152280" cy="228600"/>
              </a:xfrm>
              <a:prstGeom prst="line">
                <a:avLst/>
              </a:prstGeom>
              <a:ln w="19080">
                <a:solidFill>
                  <a:srgbClr val="0c6d9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085920" y="4381560"/>
                <a:ext cx="76320" cy="152280"/>
              </a:xfrm>
              <a:prstGeom prst="line">
                <a:avLst/>
              </a:prstGeom>
              <a:ln w="19080">
                <a:solidFill>
                  <a:srgbClr val="0c6d9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2933640" y="4381560"/>
                <a:ext cx="0" cy="228600"/>
              </a:xfrm>
              <a:prstGeom prst="line">
                <a:avLst/>
              </a:prstGeom>
              <a:ln w="19080">
                <a:solidFill>
                  <a:srgbClr val="0c6d9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flipV="1">
                <a:off x="2933640" y="4533840"/>
                <a:ext cx="228600" cy="76320"/>
              </a:xfrm>
              <a:prstGeom prst="line">
                <a:avLst/>
              </a:prstGeom>
              <a:ln w="19080">
                <a:solidFill>
                  <a:srgbClr val="0c6d9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2933640" y="4381560"/>
                <a:ext cx="152280" cy="0"/>
              </a:xfrm>
              <a:prstGeom prst="line">
                <a:avLst/>
              </a:prstGeom>
              <a:ln w="19080">
                <a:solidFill>
                  <a:srgbClr val="0c6d9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flipV="1">
                <a:off x="3085920" y="4228920"/>
                <a:ext cx="76320" cy="152640"/>
              </a:xfrm>
              <a:prstGeom prst="line">
                <a:avLst/>
              </a:prstGeom>
              <a:ln w="19080">
                <a:solidFill>
                  <a:srgbClr val="0c6d9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3162240" y="4228920"/>
                <a:ext cx="152280" cy="76320"/>
              </a:xfrm>
              <a:prstGeom prst="line">
                <a:avLst/>
              </a:prstGeom>
              <a:ln w="19080">
                <a:solidFill>
                  <a:srgbClr val="0c6d9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9" name=""/>
            <p:cNvSpPr/>
            <p:nvPr/>
          </p:nvSpPr>
          <p:spPr>
            <a:xfrm>
              <a:off x="2666880" y="4876560"/>
              <a:ext cx="914400" cy="762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0" name=""/>
            <p:cNvGrpSpPr/>
            <p:nvPr/>
          </p:nvGrpSpPr>
          <p:grpSpPr>
            <a:xfrm>
              <a:off x="2781360" y="4952520"/>
              <a:ext cx="685800" cy="609480"/>
              <a:chOff x="2781360" y="4952520"/>
              <a:chExt cx="685800" cy="609480"/>
            </a:xfrm>
          </p:grpSpPr>
          <p:sp>
            <p:nvSpPr>
              <p:cNvPr id="331" name=""/>
              <p:cNvSpPr/>
              <p:nvPr/>
            </p:nvSpPr>
            <p:spPr>
              <a:xfrm flipV="1">
                <a:off x="2781360" y="5333760"/>
                <a:ext cx="228600" cy="75600"/>
              </a:xfrm>
              <a:prstGeom prst="line">
                <a:avLst/>
              </a:prstGeom>
              <a:ln w="19080">
                <a:solidFill>
                  <a:srgbClr val="00c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 flipV="1">
                <a:off x="3009960" y="5105160"/>
                <a:ext cx="152280" cy="228240"/>
              </a:xfrm>
              <a:prstGeom prst="line">
                <a:avLst/>
              </a:prstGeom>
              <a:ln w="19080">
                <a:solidFill>
                  <a:srgbClr val="00c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 flipV="1">
                <a:off x="3162240" y="4952520"/>
                <a:ext cx="228600" cy="152280"/>
              </a:xfrm>
              <a:prstGeom prst="line">
                <a:avLst/>
              </a:prstGeom>
              <a:ln w="19080">
                <a:solidFill>
                  <a:srgbClr val="00c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2781360" y="5409720"/>
                <a:ext cx="76320" cy="152280"/>
              </a:xfrm>
              <a:prstGeom prst="line">
                <a:avLst/>
              </a:prstGeom>
              <a:ln w="19080">
                <a:solidFill>
                  <a:srgbClr val="00c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3009960" y="5333760"/>
                <a:ext cx="152280" cy="75600"/>
              </a:xfrm>
              <a:prstGeom prst="line">
                <a:avLst/>
              </a:prstGeom>
              <a:ln w="19080">
                <a:solidFill>
                  <a:srgbClr val="00c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 flipV="1">
                <a:off x="2857680" y="5409360"/>
                <a:ext cx="304560" cy="152280"/>
              </a:xfrm>
              <a:prstGeom prst="line">
                <a:avLst/>
              </a:prstGeom>
              <a:ln w="19080">
                <a:solidFill>
                  <a:srgbClr val="00c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flipV="1">
                <a:off x="3162240" y="5181120"/>
                <a:ext cx="152640" cy="228240"/>
              </a:xfrm>
              <a:prstGeom prst="line">
                <a:avLst/>
              </a:prstGeom>
              <a:ln w="19080">
                <a:solidFill>
                  <a:srgbClr val="00c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3162240" y="5105160"/>
                <a:ext cx="152640" cy="75600"/>
              </a:xfrm>
              <a:prstGeom prst="line">
                <a:avLst/>
              </a:prstGeom>
              <a:ln w="19080">
                <a:solidFill>
                  <a:srgbClr val="00c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3390840" y="4952880"/>
                <a:ext cx="76320" cy="152280"/>
              </a:xfrm>
              <a:prstGeom prst="line">
                <a:avLst/>
              </a:prstGeom>
              <a:ln w="19080">
                <a:solidFill>
                  <a:srgbClr val="00c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flipH="1">
                <a:off x="3314520" y="5105160"/>
                <a:ext cx="152280" cy="75600"/>
              </a:xfrm>
              <a:prstGeom prst="line">
                <a:avLst/>
              </a:prstGeom>
              <a:ln w="19080">
                <a:solidFill>
                  <a:srgbClr val="00c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1" name=""/>
            <p:cNvSpPr/>
            <p:nvPr/>
          </p:nvSpPr>
          <p:spPr>
            <a:xfrm>
              <a:off x="5562720" y="4457520"/>
              <a:ext cx="914400" cy="762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2" name=""/>
            <p:cNvGrpSpPr/>
            <p:nvPr/>
          </p:nvGrpSpPr>
          <p:grpSpPr>
            <a:xfrm>
              <a:off x="5676840" y="4533480"/>
              <a:ext cx="685800" cy="609840"/>
              <a:chOff x="5676840" y="4533480"/>
              <a:chExt cx="685800" cy="609840"/>
            </a:xfrm>
          </p:grpSpPr>
          <p:sp>
            <p:nvSpPr>
              <p:cNvPr id="343" name=""/>
              <p:cNvSpPr/>
              <p:nvPr/>
            </p:nvSpPr>
            <p:spPr>
              <a:xfrm>
                <a:off x="5676840" y="4762440"/>
                <a:ext cx="152280" cy="0"/>
              </a:xfrm>
              <a:prstGeom prst="line">
                <a:avLst/>
              </a:prstGeom>
              <a:ln w="19080">
                <a:solidFill>
                  <a:srgbClr val="ff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 flipH="1">
                <a:off x="6057360" y="4533840"/>
                <a:ext cx="228600" cy="152280"/>
              </a:xfrm>
              <a:prstGeom prst="line">
                <a:avLst/>
              </a:prstGeom>
              <a:ln w="19080">
                <a:solidFill>
                  <a:srgbClr val="ff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 flipH="1">
                <a:off x="5905080" y="4686120"/>
                <a:ext cx="152280" cy="228600"/>
              </a:xfrm>
              <a:prstGeom prst="line">
                <a:avLst/>
              </a:prstGeom>
              <a:ln w="19080">
                <a:solidFill>
                  <a:srgbClr val="0c6d9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5829120" y="4762440"/>
                <a:ext cx="76320" cy="152280"/>
              </a:xfrm>
              <a:prstGeom prst="line">
                <a:avLst/>
              </a:prstGeom>
              <a:ln w="19080">
                <a:solidFill>
                  <a:srgbClr val="0c6d9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 flipV="1">
                <a:off x="5676840" y="4914720"/>
                <a:ext cx="228600" cy="76320"/>
              </a:xfrm>
              <a:prstGeom prst="line">
                <a:avLst/>
              </a:prstGeom>
              <a:ln w="19080">
                <a:solidFill>
                  <a:srgbClr val="0c6d9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5676840" y="4762440"/>
                <a:ext cx="152280" cy="0"/>
              </a:xfrm>
              <a:prstGeom prst="line">
                <a:avLst/>
              </a:prstGeom>
              <a:ln w="19080">
                <a:solidFill>
                  <a:srgbClr val="0c6d9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 flipV="1">
                <a:off x="5676840" y="4914720"/>
                <a:ext cx="228600" cy="76320"/>
              </a:xfrm>
              <a:prstGeom prst="line">
                <a:avLst/>
              </a:prstGeom>
              <a:ln w="19080">
                <a:solidFill>
                  <a:srgbClr val="00c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 flipV="1">
                <a:off x="5905440" y="4685760"/>
                <a:ext cx="152280" cy="228600"/>
              </a:xfrm>
              <a:prstGeom prst="line">
                <a:avLst/>
              </a:prstGeom>
              <a:ln w="19080">
                <a:solidFill>
                  <a:srgbClr val="00c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 flipV="1">
                <a:off x="6057720" y="4533480"/>
                <a:ext cx="228600" cy="152280"/>
              </a:xfrm>
              <a:prstGeom prst="line">
                <a:avLst/>
              </a:prstGeom>
              <a:ln w="19080">
                <a:solidFill>
                  <a:srgbClr val="00c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5676840" y="4991040"/>
                <a:ext cx="76320" cy="152280"/>
              </a:xfrm>
              <a:prstGeom prst="line">
                <a:avLst/>
              </a:prstGeom>
              <a:ln w="19080">
                <a:solidFill>
                  <a:srgbClr val="00c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5905440" y="4914720"/>
                <a:ext cx="152280" cy="76320"/>
              </a:xfrm>
              <a:prstGeom prst="line">
                <a:avLst/>
              </a:prstGeom>
              <a:ln w="19080">
                <a:solidFill>
                  <a:srgbClr val="00c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 flipV="1">
                <a:off x="5753160" y="4990680"/>
                <a:ext cx="304560" cy="152280"/>
              </a:xfrm>
              <a:prstGeom prst="line">
                <a:avLst/>
              </a:prstGeom>
              <a:ln w="19080">
                <a:solidFill>
                  <a:srgbClr val="00c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 flipV="1">
                <a:off x="6057720" y="4762080"/>
                <a:ext cx="152640" cy="228600"/>
              </a:xfrm>
              <a:prstGeom prst="line">
                <a:avLst/>
              </a:prstGeom>
              <a:ln w="19080">
                <a:solidFill>
                  <a:srgbClr val="00c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6057720" y="4686120"/>
                <a:ext cx="152640" cy="76320"/>
              </a:xfrm>
              <a:prstGeom prst="line">
                <a:avLst/>
              </a:prstGeom>
              <a:ln w="19080">
                <a:solidFill>
                  <a:srgbClr val="00c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6286320" y="4533840"/>
                <a:ext cx="76320" cy="152280"/>
              </a:xfrm>
              <a:prstGeom prst="line">
                <a:avLst/>
              </a:prstGeom>
              <a:ln w="19080">
                <a:solidFill>
                  <a:srgbClr val="00c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 flipH="1">
                <a:off x="6210000" y="4686120"/>
                <a:ext cx="152280" cy="76320"/>
              </a:xfrm>
              <a:prstGeom prst="line">
                <a:avLst/>
              </a:prstGeom>
              <a:ln w="19080">
                <a:solidFill>
                  <a:srgbClr val="00c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5676840" y="4762440"/>
                <a:ext cx="0" cy="228600"/>
              </a:xfrm>
              <a:prstGeom prst="line">
                <a:avLst/>
              </a:prstGeom>
              <a:ln w="19080">
                <a:solidFill>
                  <a:srgbClr val="0c6d9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0" name=""/>
            <p:cNvGrpSpPr/>
            <p:nvPr/>
          </p:nvGrpSpPr>
          <p:grpSpPr>
            <a:xfrm>
              <a:off x="5715000" y="3695760"/>
              <a:ext cx="609480" cy="609120"/>
              <a:chOff x="5715000" y="3695760"/>
              <a:chExt cx="609480" cy="609120"/>
            </a:xfrm>
          </p:grpSpPr>
          <p:sp>
            <p:nvSpPr>
              <p:cNvPr id="361" name=""/>
              <p:cNvSpPr/>
              <p:nvPr/>
            </p:nvSpPr>
            <p:spPr>
              <a:xfrm flipH="1">
                <a:off x="5790960" y="3695760"/>
                <a:ext cx="228600" cy="228240"/>
              </a:xfrm>
              <a:prstGeom prst="line">
                <a:avLst/>
              </a:prstGeom>
              <a:ln w="19080">
                <a:solidFill>
                  <a:srgbClr val="ff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5791320" y="3924000"/>
                <a:ext cx="152280" cy="75960"/>
              </a:xfrm>
              <a:prstGeom prst="line">
                <a:avLst/>
              </a:prstGeom>
              <a:ln w="19080">
                <a:solidFill>
                  <a:srgbClr val="ff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6019920" y="3695760"/>
                <a:ext cx="152280" cy="152280"/>
              </a:xfrm>
              <a:prstGeom prst="line">
                <a:avLst/>
              </a:prstGeom>
              <a:ln w="19080">
                <a:solidFill>
                  <a:srgbClr val="ff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 flipH="1">
                <a:off x="5943240" y="3848040"/>
                <a:ext cx="228600" cy="151920"/>
              </a:xfrm>
              <a:prstGeom prst="line">
                <a:avLst/>
              </a:prstGeom>
              <a:ln w="19080">
                <a:solidFill>
                  <a:srgbClr val="ff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>
                <a:off x="5867280" y="4000320"/>
                <a:ext cx="76320" cy="151920"/>
              </a:xfrm>
              <a:prstGeom prst="line">
                <a:avLst/>
              </a:prstGeom>
              <a:ln w="19080">
                <a:solidFill>
                  <a:srgbClr val="ff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 flipH="1">
                <a:off x="5715000" y="3924000"/>
                <a:ext cx="76320" cy="228240"/>
              </a:xfrm>
              <a:prstGeom prst="line">
                <a:avLst/>
              </a:prstGeom>
              <a:ln w="19080">
                <a:solidFill>
                  <a:srgbClr val="ff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5715000" y="4152600"/>
                <a:ext cx="152280" cy="0"/>
              </a:xfrm>
              <a:prstGeom prst="line">
                <a:avLst/>
              </a:prstGeom>
              <a:ln w="19080">
                <a:solidFill>
                  <a:srgbClr val="ff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5943600" y="4000320"/>
                <a:ext cx="152280" cy="75960"/>
              </a:xfrm>
              <a:prstGeom prst="line">
                <a:avLst/>
              </a:prstGeom>
              <a:ln w="19080">
                <a:solidFill>
                  <a:srgbClr val="ff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6172200" y="3848040"/>
                <a:ext cx="152280" cy="75600"/>
              </a:xfrm>
              <a:prstGeom prst="line">
                <a:avLst/>
              </a:prstGeom>
              <a:ln w="19080">
                <a:solidFill>
                  <a:srgbClr val="ff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 flipH="1">
                <a:off x="6095520" y="3924000"/>
                <a:ext cx="228600" cy="152280"/>
              </a:xfrm>
              <a:prstGeom prst="line">
                <a:avLst/>
              </a:prstGeom>
              <a:ln w="19080">
                <a:solidFill>
                  <a:srgbClr val="ff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 flipH="1">
                <a:off x="5943240" y="4076640"/>
                <a:ext cx="152280" cy="228240"/>
              </a:xfrm>
              <a:prstGeom prst="line">
                <a:avLst/>
              </a:prstGeom>
              <a:ln w="19080">
                <a:solidFill>
                  <a:srgbClr val="0c6d9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5867280" y="4152600"/>
                <a:ext cx="76320" cy="152280"/>
              </a:xfrm>
              <a:prstGeom prst="line">
                <a:avLst/>
              </a:prstGeom>
              <a:ln w="19080">
                <a:solidFill>
                  <a:srgbClr val="0c6d9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5715000" y="4152600"/>
                <a:ext cx="152280" cy="0"/>
              </a:xfrm>
              <a:prstGeom prst="line">
                <a:avLst/>
              </a:prstGeom>
              <a:ln w="19080">
                <a:solidFill>
                  <a:srgbClr val="0c6d9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V="1">
                <a:off x="5867280" y="4000320"/>
                <a:ext cx="76320" cy="151920"/>
              </a:xfrm>
              <a:prstGeom prst="line">
                <a:avLst/>
              </a:prstGeom>
              <a:ln w="19080">
                <a:solidFill>
                  <a:srgbClr val="0c6d9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5943600" y="4000320"/>
                <a:ext cx="152280" cy="75960"/>
              </a:xfrm>
              <a:prstGeom prst="line">
                <a:avLst/>
              </a:prstGeom>
              <a:ln w="19080">
                <a:solidFill>
                  <a:srgbClr val="0c6d9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6" name=""/>
            <p:cNvSpPr/>
            <p:nvPr/>
          </p:nvSpPr>
          <p:spPr>
            <a:xfrm>
              <a:off x="5562720" y="3619440"/>
              <a:ext cx="914400" cy="762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3657600" y="3581280"/>
              <a:ext cx="1828800" cy="3808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 flipV="1">
              <a:off x="3657600" y="4114800"/>
              <a:ext cx="1828800" cy="304560"/>
            </a:xfrm>
            <a:prstGeom prst="line">
              <a:avLst/>
            </a:prstGeom>
            <a:ln w="19080">
              <a:solidFill>
                <a:srgbClr val="0c6d9c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657600" y="4419360"/>
              <a:ext cx="1828800" cy="304920"/>
            </a:xfrm>
            <a:prstGeom prst="line">
              <a:avLst/>
            </a:prstGeom>
            <a:ln w="19080">
              <a:solidFill>
                <a:srgbClr val="0c6d9c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 flipV="1">
              <a:off x="3657600" y="4876200"/>
              <a:ext cx="1828800" cy="381240"/>
            </a:xfrm>
            <a:prstGeom prst="line">
              <a:avLst/>
            </a:prstGeom>
            <a:ln w="19080">
              <a:solidFill>
                <a:srgbClr val="00c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03869-E6C7-4897-ADDD-9C8BDF2833D9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79000" y="298440"/>
            <a:ext cx="855972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umerical simulation software is becoming increasingly complex and interdisciplinar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19040" y="1486080"/>
            <a:ext cx="8724960" cy="407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ts val="2798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ientists are asked to develop 3d, massively parallel, high-fidelity, full-physics simulations;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nd do it quick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798"/>
              </a:lnSpc>
              <a:spcBef>
                <a:spcPts val="3399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s requires the integration of software libraries developed by other team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cal resources are limited and expertise may not exis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ss of local control over software development deci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nguage interoperability issues (f77, C, C++, Python, Java, f9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798"/>
              </a:lnSpc>
              <a:spcBef>
                <a:spcPts val="3399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chniques for small codes do not scale to 500K lin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9D2B2-A43F-4977-9D15-0101D294158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31280" y="298440"/>
            <a:ext cx="82551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arallel components will require special additions to SIDL interface descriptio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164880" y="1485720"/>
            <a:ext cx="8978760" cy="2019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ts val="2798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cial RMI semantics for parallel compone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ide a </a:t>
            </a:r>
            <a:r>
              <a:rPr b="0" i="1" lang="en-US" sz="2000" spc="-1" strike="noStrike">
                <a:solidFill>
                  <a:srgbClr val="ff0066"/>
                </a:solidFill>
                <a:latin typeface="Arial"/>
              </a:rPr>
              <a:t>loc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ttribute for metho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ll also need a </a:t>
            </a:r>
            <a:r>
              <a:rPr b="0" i="1" lang="en-US" sz="2000" spc="-1" strike="noStrike">
                <a:solidFill>
                  <a:srgbClr val="ff0066"/>
                </a:solidFill>
                <a:latin typeface="Arial"/>
              </a:rPr>
              <a:t>cop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ttribute for pass-by-value, et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however, no data distribution directives - must be done dynamical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1763640" y="3429000"/>
            <a:ext cx="5514840" cy="2228400"/>
          </a:xfrm>
          <a:prstGeom prst="rect">
            <a:avLst/>
          </a:prstGeom>
          <a:noFill/>
          <a:ln w="19080">
            <a:solidFill>
              <a:srgbClr val="0c6d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c6d9c"/>
                </a:solidFill>
                <a:latin typeface="Courier New"/>
              </a:rPr>
              <a:t>package ESI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c6d9c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c6d9c"/>
                </a:solidFill>
                <a:latin typeface="Courier New"/>
              </a:rPr>
              <a:t>interface Vector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c6d9c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c6d9c"/>
                </a:solidFill>
                <a:latin typeface="Courier New"/>
              </a:rPr>
              <a:t>double dot(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copy</a:t>
            </a:r>
            <a:r>
              <a:rPr b="1" lang="en-US" sz="2000" spc="-1" strike="noStrike">
                <a:solidFill>
                  <a:srgbClr val="0c6d9c"/>
                </a:solidFill>
                <a:latin typeface="Courier New"/>
              </a:rPr>
              <a:t> in Vector v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c6d9c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c6d9c"/>
                </a:solidFill>
                <a:latin typeface="Courier New"/>
              </a:rPr>
              <a:t>int getGlobalSize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c6d9c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c6d9c"/>
                </a:solidFill>
                <a:latin typeface="Courier New"/>
              </a:rPr>
              <a:t>int getLocalSize() </a:t>
            </a:r>
            <a:r>
              <a:rPr b="1" lang="en-US" sz="2000" spc="-1" strike="noStrike">
                <a:solidFill>
                  <a:srgbClr val="ff0033"/>
                </a:solidFill>
                <a:latin typeface="Courier New"/>
              </a:rPr>
              <a:t>local</a:t>
            </a:r>
            <a:r>
              <a:rPr b="1" lang="en-US" sz="2000" spc="-1" strike="noStrike">
                <a:solidFill>
                  <a:srgbClr val="0c6d9c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c6d9c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c6d9c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c6d9c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56FFC-48B3-4027-9C10-F25F7495337E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ynamic redistribution of arbitrary data: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sk the object to do it for you!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18680" y="1485720"/>
            <a:ext cx="8496360" cy="506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ts val="2798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rregular data too complex to represent in ID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798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sic approach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jects implement one of a set of redistribution interfac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brary queries object at run-time for supported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245880" y="3200400"/>
            <a:ext cx="7796520" cy="2284200"/>
            <a:chOff x="245880" y="3200400"/>
            <a:chExt cx="7796520" cy="2284200"/>
          </a:xfrm>
        </p:grpSpPr>
        <p:sp>
          <p:nvSpPr>
            <p:cNvPr id="387" name=""/>
            <p:cNvSpPr/>
            <p:nvPr/>
          </p:nvSpPr>
          <p:spPr>
            <a:xfrm>
              <a:off x="245880" y="3200400"/>
              <a:ext cx="5057640" cy="2284200"/>
            </a:xfrm>
            <a:prstGeom prst="rect">
              <a:avLst/>
            </a:prstGeom>
            <a:noFill/>
            <a:ln w="19080">
              <a:solidFill>
                <a:srgbClr val="0c6d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c6d9c"/>
                  </a:solidFill>
                  <a:latin typeface="Courier New"/>
                </a:rPr>
                <a:t>interface ComplexDistributed {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c6d9c"/>
                  </a:solidFill>
                  <a:latin typeface="Courier New"/>
                </a:rPr>
                <a:t>   </a:t>
              </a:r>
              <a:r>
                <a:rPr b="1" lang="en-US" sz="1600" spc="-1" strike="noStrike">
                  <a:solidFill>
                    <a:srgbClr val="0c6d9c"/>
                  </a:solidFill>
                  <a:latin typeface="Courier New"/>
                </a:rPr>
                <a:t>void serialize(in Array&lt;Stream&gt; s)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c6d9c"/>
                  </a:solidFill>
                  <a:latin typeface="Courier New"/>
                </a:rPr>
                <a:t>   </a:t>
              </a:r>
              <a:r>
                <a:rPr b="1" lang="en-US" sz="1600" spc="-1" strike="noStrike">
                  <a:solidFill>
                    <a:srgbClr val="0c6d9c"/>
                  </a:solidFill>
                  <a:latin typeface="Courier New"/>
                </a:rPr>
                <a:t>void deserialize(in Array&lt;Stream&gt; s)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c6d9c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c6d9c"/>
                  </a:solidFill>
                  <a:latin typeface="Courier New"/>
                </a:rPr>
                <a:t>..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c6d9c"/>
                  </a:solidFill>
                  <a:latin typeface="Courier New"/>
                </a:rPr>
                <a:t>interface ArrayDistributed {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c6d9c"/>
                  </a:solidFill>
                  <a:latin typeface="Courier New"/>
                </a:rPr>
                <a:t>   </a:t>
              </a:r>
              <a:r>
                <a:rPr b="1" lang="en-US" sz="1600" spc="-1" strike="noStrike">
                  <a:solidFill>
                    <a:srgbClr val="0c6d9c"/>
                  </a:solidFill>
                  <a:latin typeface="Courier New"/>
                </a:rPr>
                <a:t>// use existing array descrip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c6d9c"/>
                  </a:solidFill>
                  <a:latin typeface="Courier New"/>
                </a:rPr>
                <a:t>   </a:t>
              </a:r>
              <a:r>
                <a:rPr b="1" lang="en-US" sz="1600" spc="-1" strike="noStrike">
                  <a:solidFill>
                    <a:srgbClr val="0c6d9c"/>
                  </a:solidFill>
                  <a:latin typeface="Courier New"/>
                </a:rPr>
                <a:t>// from PAWS or CUMULV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c6d9c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5410080" y="3353040"/>
              <a:ext cx="152640" cy="68580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19080">
              <a:solidFill>
                <a:srgbClr val="006b6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641200" y="3429000"/>
              <a:ext cx="2401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6b61"/>
                  </a:solidFill>
                  <a:latin typeface="Arial"/>
                </a:rPr>
                <a:t>two streams on M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6b61"/>
                  </a:solidFill>
                  <a:latin typeface="Arial"/>
                </a:rPr>
                <a:t>three streams on M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0" name=""/>
          <p:cNvGrpSpPr/>
          <p:nvPr/>
        </p:nvGrpSpPr>
        <p:grpSpPr>
          <a:xfrm>
            <a:off x="5563440" y="4191120"/>
            <a:ext cx="3201120" cy="2532600"/>
            <a:chOff x="5563440" y="4191120"/>
            <a:chExt cx="3201120" cy="2532600"/>
          </a:xfrm>
        </p:grpSpPr>
        <p:grpSp>
          <p:nvGrpSpPr>
            <p:cNvPr id="391" name=""/>
            <p:cNvGrpSpPr/>
            <p:nvPr/>
          </p:nvGrpSpPr>
          <p:grpSpPr>
            <a:xfrm>
              <a:off x="8231040" y="4572000"/>
              <a:ext cx="532800" cy="1295280"/>
              <a:chOff x="8231040" y="4572000"/>
              <a:chExt cx="532800" cy="1295280"/>
            </a:xfrm>
          </p:grpSpPr>
          <p:sp>
            <p:nvSpPr>
              <p:cNvPr id="392" name=""/>
              <p:cNvSpPr/>
              <p:nvPr/>
            </p:nvSpPr>
            <p:spPr>
              <a:xfrm>
                <a:off x="8231040" y="5333760"/>
                <a:ext cx="532800" cy="533520"/>
              </a:xfrm>
              <a:prstGeom prst="rect">
                <a:avLst/>
              </a:prstGeom>
              <a:noFill/>
              <a:ln w="19080">
                <a:solidFill>
                  <a:srgbClr val="006b6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8231040" y="4572000"/>
                <a:ext cx="532800" cy="533160"/>
              </a:xfrm>
              <a:prstGeom prst="rect">
                <a:avLst/>
              </a:prstGeom>
              <a:noFill/>
              <a:ln w="19080">
                <a:solidFill>
                  <a:srgbClr val="006b6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4" name=""/>
            <p:cNvGrpSpPr/>
            <p:nvPr/>
          </p:nvGrpSpPr>
          <p:grpSpPr>
            <a:xfrm>
              <a:off x="5563800" y="4191120"/>
              <a:ext cx="533160" cy="2057400"/>
              <a:chOff x="5563800" y="4191120"/>
              <a:chExt cx="533160" cy="2057400"/>
            </a:xfrm>
          </p:grpSpPr>
          <p:sp>
            <p:nvSpPr>
              <p:cNvPr id="395" name=""/>
              <p:cNvSpPr/>
              <p:nvPr/>
            </p:nvSpPr>
            <p:spPr>
              <a:xfrm>
                <a:off x="5563800" y="4191120"/>
                <a:ext cx="533160" cy="533520"/>
              </a:xfrm>
              <a:prstGeom prst="rect">
                <a:avLst/>
              </a:prstGeom>
              <a:noFill/>
              <a:ln w="19080">
                <a:solidFill>
                  <a:srgbClr val="0c6d9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5563800" y="4953240"/>
                <a:ext cx="533160" cy="533160"/>
              </a:xfrm>
              <a:prstGeom prst="rect">
                <a:avLst/>
              </a:prstGeom>
              <a:noFill/>
              <a:ln w="19080">
                <a:solidFill>
                  <a:srgbClr val="0c6d9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5563800" y="5715000"/>
                <a:ext cx="533160" cy="533520"/>
              </a:xfrm>
              <a:prstGeom prst="rect">
                <a:avLst/>
              </a:prstGeom>
              <a:noFill/>
              <a:ln w="19080">
                <a:solidFill>
                  <a:srgbClr val="0c6d9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5563440" y="6324840"/>
              <a:ext cx="534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c6d9c"/>
                  </a:solidFill>
                  <a:latin typeface="Arial"/>
                </a:rPr>
                <a:t>M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8307360" y="464832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6b61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640480" y="426744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c6d9c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5640480" y="502920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c6d9c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5640480" y="579132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c6d9c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8307360" y="541044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6b61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8230320" y="6324840"/>
              <a:ext cx="534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6b61"/>
                  </a:solidFill>
                  <a:latin typeface="Arial"/>
                </a:rPr>
                <a:t>M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6171840" y="4496040"/>
              <a:ext cx="1904760" cy="228600"/>
            </a:xfrm>
            <a:prstGeom prst="line">
              <a:avLst/>
            </a:prstGeom>
            <a:ln w="19080">
              <a:solidFill>
                <a:srgbClr val="006b6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V="1">
              <a:off x="6171840" y="4876560"/>
              <a:ext cx="1904760" cy="304920"/>
            </a:xfrm>
            <a:prstGeom prst="line">
              <a:avLst/>
            </a:prstGeom>
            <a:ln w="19080">
              <a:solidFill>
                <a:srgbClr val="006b6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 flipV="1">
              <a:off x="6171840" y="5029200"/>
              <a:ext cx="1904760" cy="914400"/>
            </a:xfrm>
            <a:prstGeom prst="line">
              <a:avLst/>
            </a:prstGeom>
            <a:ln w="19080">
              <a:solidFill>
                <a:srgbClr val="006b6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171840" y="4496040"/>
              <a:ext cx="1904760" cy="914400"/>
            </a:xfrm>
            <a:prstGeom prst="line">
              <a:avLst/>
            </a:prstGeom>
            <a:ln w="1908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171840" y="5181840"/>
              <a:ext cx="1904760" cy="380880"/>
            </a:xfrm>
            <a:prstGeom prst="line">
              <a:avLst/>
            </a:prstGeom>
            <a:ln w="1908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 flipV="1">
              <a:off x="6171840" y="5714640"/>
              <a:ext cx="1904760" cy="228600"/>
            </a:xfrm>
            <a:prstGeom prst="line">
              <a:avLst/>
            </a:prstGeom>
            <a:ln w="1908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F5EA9-94DC-404E-828D-EDBEFBC91974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ill component technology be part of the future of scientific computing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18680" y="1485720"/>
            <a:ext cx="8318520" cy="506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ts val="2798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ll, maybe - or maybe no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798"/>
              </a:lnSpc>
              <a:spcBef>
                <a:spcPts val="24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onent technology does offer new capabiliti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chniques to manage large-scale application complex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nguage interoperability and easier plug-and-pla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verage technology, not re-invent the whe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idges to interoperate with industry software (e.g., SOAP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798"/>
              </a:lnSpc>
              <a:spcBef>
                <a:spcPts val="24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wever, capabilities come at a pri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es scientists to using component technology too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ep learning curve (needs to become part of cultur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fferent paradigm for developing scientific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0">
              <a:lnSpc>
                <a:spcPts val="2798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49012-0CE3-4349-AFAA-AD9B0ACF2B25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18680" y="1485720"/>
            <a:ext cx="8318520" cy="506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ts val="2798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ork performed under the auspices of the U.S. Department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f Energy by University of California Lawrence Livermore National Laboratory under Contract W-7405-Eng-48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798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cument UCRL-VG-140549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3FE5E-4A64-43D8-962C-853DA6739418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are the barriers to software re-use, interoperability, and integration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19040" y="1485720"/>
            <a:ext cx="8501040" cy="506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ts val="2798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chnological barrie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ompatible programming languages (f90 calling C++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ompatibilities in C and C++ header files (poor physical design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flicting low-level run-time support (e.g., reference counting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798"/>
              </a:lnSpc>
              <a:spcBef>
                <a:spcPts val="28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ciological barrie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ust (“how do I know you know what you’re doing?”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could re-write it in less time than it would take to learn it…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798"/>
              </a:lnSpc>
              <a:spcBef>
                <a:spcPts val="28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main understanding barriers (the interesting one!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stand interactions of the math and physics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e software that reflects that understand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is where we gain insights and make scientific progr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3D63C-A061-4496-B3A5-99249C3D5C1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79000" y="298440"/>
            <a:ext cx="855972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ponent technologies address issues of software complexity and interoperabilit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18680" y="1485720"/>
            <a:ext cx="8572680" cy="2400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ts val="2798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dustry created component technology to address..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operability problems due to langu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lexity of large applications with third-party softwa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remental evolution of large legacy softwa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143000" y="3886200"/>
            <a:ext cx="6858000" cy="1008720"/>
          </a:xfrm>
          <a:prstGeom prst="rect">
            <a:avLst/>
          </a:prstGeom>
          <a:noFill/>
          <a:ln w="19080">
            <a:solidFill>
              <a:srgbClr val="0c6d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c6d9c"/>
                </a:solidFill>
                <a:uFillTx/>
                <a:latin typeface="Arial"/>
              </a:rPr>
              <a:t>Observation</a:t>
            </a:r>
            <a:r>
              <a:rPr b="1" lang="en-US" sz="2000" spc="-1" strike="noStrike">
                <a:solidFill>
                  <a:srgbClr val="0c6d9c"/>
                </a:solidFill>
                <a:latin typeface="Arial"/>
              </a:rPr>
              <a:t>: The laboratory must address similar problems but in a different applications space (parallel high-performance scientific simulation, not business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B3411-7A9B-4066-9A7F-0E098A49CEE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urrent industry solutions will not work in a scientific computing environmen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18680" y="1485720"/>
            <a:ext cx="8572680" cy="506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ts val="2798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ree competing industry component approach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crosoft CO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n JavaBeans and Enterprise JavaBea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MG CORB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798"/>
              </a:lnSpc>
              <a:spcBef>
                <a:spcPts val="3200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mitations for high-performance scientific comput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 not address issues of massively parallel componen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dustry focuses on abstractions for business (not scientific) dat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ically unavailable on our parallel research platfor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ck of support for Fortran 77 and Fortran 9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798"/>
              </a:lnSpc>
              <a:spcBef>
                <a:spcPts val="3200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wever, we can leverage techniques and softwa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7FF72-3E47-4982-A711-C222EE16381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ponent technology extends OO with interoperability and common interfac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31852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ts val="2798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rt with object-oriented technolog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798"/>
              </a:lnSpc>
              <a:spcBef>
                <a:spcPts val="24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d language interoperabilit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be object calling interfaces independent of languag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“glue” software to support cross-language cal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798"/>
              </a:lnSpc>
              <a:spcBef>
                <a:spcPts val="24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d common behavior, packaging, and descrip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components must support some common interfac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on tools (e.g., repositories, builders, …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798"/>
              </a:lnSpc>
              <a:spcBef>
                <a:spcPts val="24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onent technology is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ject-oriented design, scripting, or framework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uctured programming (e.g., modules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olution for all of your problems (just some of them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41D2E-93EB-4E16-A25F-C95602EC05E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79000" y="298440"/>
            <a:ext cx="855972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ponent technology approaches help to manage application software complexit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82680" y="1552680"/>
            <a:ext cx="292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nolithic” approa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037120" y="1550880"/>
            <a:ext cx="341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-block” approa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5079960" y="2227320"/>
            <a:ext cx="3752640" cy="2194920"/>
            <a:chOff x="5079960" y="2227320"/>
            <a:chExt cx="3752640" cy="2194920"/>
          </a:xfrm>
        </p:grpSpPr>
        <p:grpSp>
          <p:nvGrpSpPr>
            <p:cNvPr id="80" name=""/>
            <p:cNvGrpSpPr/>
            <p:nvPr/>
          </p:nvGrpSpPr>
          <p:grpSpPr>
            <a:xfrm>
              <a:off x="7318440" y="3512880"/>
              <a:ext cx="1514160" cy="909360"/>
              <a:chOff x="7318440" y="3512880"/>
              <a:chExt cx="1514160" cy="909360"/>
            </a:xfrm>
          </p:grpSpPr>
          <p:sp>
            <p:nvSpPr>
              <p:cNvPr id="81" name=""/>
              <p:cNvSpPr/>
              <p:nvPr/>
            </p:nvSpPr>
            <p:spPr>
              <a:xfrm>
                <a:off x="7318440" y="3512880"/>
                <a:ext cx="1514160" cy="909360"/>
              </a:xfrm>
              <a:prstGeom prst="rect">
                <a:avLst/>
              </a:prstGeom>
              <a:noFill/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7382160" y="3607920"/>
                <a:ext cx="138312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ff"/>
                    </a:solidFill>
                    <a:latin typeface="Arial"/>
                  </a:rPr>
                  <a:t>model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ff"/>
                    </a:solidFill>
                    <a:latin typeface="Arial"/>
                  </a:rPr>
                  <a:t>equation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6675480" y="2566800"/>
              <a:ext cx="1079280" cy="62028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667920" y="2677680"/>
              <a:ext cx="1072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solver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5" name=""/>
            <p:cNvGrpSpPr/>
            <p:nvPr/>
          </p:nvGrpSpPr>
          <p:grpSpPr>
            <a:xfrm>
              <a:off x="5079960" y="2227320"/>
              <a:ext cx="1270080" cy="909360"/>
              <a:chOff x="5079960" y="2227320"/>
              <a:chExt cx="1270080" cy="909360"/>
            </a:xfrm>
          </p:grpSpPr>
          <p:sp>
            <p:nvSpPr>
              <p:cNvPr id="86" name=""/>
              <p:cNvSpPr/>
              <p:nvPr/>
            </p:nvSpPr>
            <p:spPr>
              <a:xfrm>
                <a:off x="5079960" y="2227320"/>
                <a:ext cx="1270080" cy="909360"/>
              </a:xfrm>
              <a:prstGeom prst="rect">
                <a:avLst/>
              </a:prstGeom>
              <a:noFill/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5162760" y="2323800"/>
                <a:ext cx="110124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ff"/>
                    </a:solidFill>
                    <a:latin typeface="Arial"/>
                  </a:rPr>
                  <a:t>tim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ff"/>
                    </a:solidFill>
                    <a:latin typeface="Arial"/>
                  </a:rPr>
                  <a:t>stepper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" name=""/>
            <p:cNvSpPr/>
            <p:nvPr/>
          </p:nvSpPr>
          <p:spPr>
            <a:xfrm>
              <a:off x="6234120" y="2876040"/>
              <a:ext cx="490320" cy="11556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919920" y="3925440"/>
              <a:ext cx="477720" cy="27432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7405560" y="3065040"/>
              <a:ext cx="331920" cy="57744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9840" y="3455640"/>
              <a:ext cx="1079280" cy="62028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2280" y="3566880"/>
              <a:ext cx="1072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solver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011640" y="3057120"/>
              <a:ext cx="604800" cy="49032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540720" y="4734000"/>
            <a:ext cx="4098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c6d9c"/>
                </a:solidFill>
                <a:latin typeface="Arial"/>
              </a:rPr>
              <a:t>• </a:t>
            </a:r>
            <a:r>
              <a:rPr b="1" lang="en-US" sz="2000" spc="-1" strike="noStrike">
                <a:solidFill>
                  <a:srgbClr val="0c6d9c"/>
                </a:solidFill>
                <a:latin typeface="Arial"/>
              </a:rPr>
              <a:t>tightly-coupled cod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c6d9c"/>
                </a:solidFill>
                <a:latin typeface="Arial"/>
              </a:rPr>
              <a:t>• </a:t>
            </a:r>
            <a:r>
              <a:rPr b="1" lang="en-US" sz="2000" spc="-1" strike="noStrike">
                <a:solidFill>
                  <a:srgbClr val="0c6d9c"/>
                </a:solidFill>
                <a:latin typeface="Arial"/>
              </a:rPr>
              <a:t>less flexible, extensi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c6d9c"/>
                </a:solidFill>
                <a:latin typeface="Arial"/>
              </a:rPr>
              <a:t>• </a:t>
            </a:r>
            <a:r>
              <a:rPr b="1" lang="en-US" sz="2000" spc="-1" strike="noStrike">
                <a:solidFill>
                  <a:srgbClr val="0c6d9c"/>
                </a:solidFill>
                <a:latin typeface="Arial"/>
              </a:rPr>
              <a:t>re-use is diffic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c6d9c"/>
                </a:solidFill>
                <a:latin typeface="Arial"/>
              </a:rPr>
              <a:t>• </a:t>
            </a:r>
            <a:r>
              <a:rPr b="1" lang="en-US" sz="2000" spc="-1" strike="noStrike">
                <a:solidFill>
                  <a:srgbClr val="0c6d9c"/>
                </a:solidFill>
                <a:latin typeface="Arial"/>
              </a:rPr>
              <a:t>well-understood by commun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412600" y="4734000"/>
            <a:ext cx="32925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c6d9c"/>
                </a:solidFill>
                <a:latin typeface="Arial"/>
              </a:rPr>
              <a:t>• </a:t>
            </a:r>
            <a:r>
              <a:rPr b="1" lang="en-US" sz="2000" spc="-1" strike="noStrike">
                <a:solidFill>
                  <a:srgbClr val="0c6d9c"/>
                </a:solidFill>
                <a:latin typeface="Arial"/>
              </a:rPr>
              <a:t>loosely-coupled cod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c6d9c"/>
                </a:solidFill>
                <a:latin typeface="Arial"/>
              </a:rPr>
              <a:t>• </a:t>
            </a:r>
            <a:r>
              <a:rPr b="1" lang="en-US" sz="2000" spc="-1" strike="noStrike">
                <a:solidFill>
                  <a:srgbClr val="0c6d9c"/>
                </a:solidFill>
                <a:latin typeface="Arial"/>
              </a:rPr>
              <a:t>more flexible, extensi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c6d9c"/>
                </a:solidFill>
                <a:latin typeface="Arial"/>
              </a:rPr>
              <a:t>• </a:t>
            </a:r>
            <a:r>
              <a:rPr b="1" lang="en-US" sz="2000" spc="-1" strike="noStrike">
                <a:solidFill>
                  <a:srgbClr val="0c6d9c"/>
                </a:solidFill>
                <a:latin typeface="Arial"/>
              </a:rPr>
              <a:t>high re-use potent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c6d9c"/>
                </a:solidFill>
                <a:latin typeface="Arial"/>
              </a:rPr>
              <a:t>• </a:t>
            </a:r>
            <a:r>
              <a:rPr b="1" lang="en-US" sz="2000" spc="-1" strike="noStrike">
                <a:solidFill>
                  <a:srgbClr val="0c6d9c"/>
                </a:solidFill>
                <a:latin typeface="Arial"/>
              </a:rPr>
              <a:t>new to commun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528480" y="2227320"/>
            <a:ext cx="4115520" cy="2193840"/>
            <a:chOff x="528480" y="2227320"/>
            <a:chExt cx="4115520" cy="2193840"/>
          </a:xfrm>
        </p:grpSpPr>
        <p:sp>
          <p:nvSpPr>
            <p:cNvPr id="97" name=""/>
            <p:cNvSpPr/>
            <p:nvPr/>
          </p:nvSpPr>
          <p:spPr>
            <a:xfrm>
              <a:off x="528480" y="2227320"/>
              <a:ext cx="2367000" cy="219384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12000" y="2324160"/>
              <a:ext cx="200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timestep loop {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11440" y="2685960"/>
              <a:ext cx="15933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if ( test1 ) 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    </a:t>
              </a: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solver1( 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9280" y="3371760"/>
              <a:ext cx="20185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else if ( test2 ) 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    </a:t>
              </a: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solver2( 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14160" y="3921120"/>
              <a:ext cx="279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}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933640" y="2876400"/>
              <a:ext cx="1352520" cy="1314720"/>
            </a:xfrm>
            <a:prstGeom prst="cloudCallout">
              <a:avLst>
                <a:gd name="adj1" fmla="val -76759"/>
                <a:gd name="adj2" fmla="val -23310"/>
              </a:avLst>
            </a:prstGeom>
            <a:solidFill>
              <a:srgbClr val="ffff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857680" y="2743200"/>
              <a:ext cx="1752480" cy="1523880"/>
            </a:xfrm>
            <a:prstGeom prst="cloudCallout">
              <a:avLst>
                <a:gd name="adj1" fmla="val -66305"/>
                <a:gd name="adj2" fmla="val 25523"/>
              </a:avLst>
            </a:prstGeom>
            <a:solidFill>
              <a:srgbClr val="ffff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820240" y="2949480"/>
              <a:ext cx="182376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sha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“</a:t>
              </a: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hard-coded”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dat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50FD9-B8FD-4B38-A226-FD19F791E12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304920"/>
            <a:ext cx="876312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AMRAI ALPS application combines three physics packages with local time refinemen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344160" y="1562040"/>
            <a:ext cx="8530920" cy="2251800"/>
            <a:chOff x="344160" y="1562040"/>
            <a:chExt cx="8530920" cy="2251800"/>
          </a:xfrm>
        </p:grpSpPr>
        <p:sp>
          <p:nvSpPr>
            <p:cNvPr id="107" name=""/>
            <p:cNvSpPr/>
            <p:nvPr/>
          </p:nvSpPr>
          <p:spPr>
            <a:xfrm>
              <a:off x="4506120" y="2957400"/>
              <a:ext cx="1227600" cy="703800"/>
            </a:xfrm>
            <a:prstGeom prst="rect">
              <a:avLst/>
            </a:prstGeom>
            <a:noFill/>
            <a:ln w="284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66cc"/>
                  </a:solidFill>
                  <a:latin typeface="Arial"/>
                </a:rPr>
                <a:t>Gradient</a:t>
              </a:r>
              <a:br>
                <a:rPr sz="2000"/>
              </a:br>
              <a:r>
                <a:rPr b="1" lang="en-US" sz="2000" spc="-1" strike="noStrike">
                  <a:solidFill>
                    <a:srgbClr val="0066cc"/>
                  </a:solidFill>
                  <a:latin typeface="Arial"/>
                </a:rPr>
                <a:t>Detec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955840" y="2805120"/>
              <a:ext cx="1439640" cy="1008720"/>
            </a:xfrm>
            <a:prstGeom prst="rect">
              <a:avLst/>
            </a:prstGeom>
            <a:noFill/>
            <a:ln w="28440">
              <a:solidFill>
                <a:srgbClr val="4f7e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f7ead"/>
                  </a:solidFill>
                  <a:latin typeface="Arial"/>
                </a:rPr>
                <a:t>Berger</a:t>
              </a:r>
              <a:br>
                <a:rPr sz="2000"/>
              </a:br>
              <a:r>
                <a:rPr b="1" lang="en-US" sz="2000" spc="-1" strike="noStrike">
                  <a:solidFill>
                    <a:srgbClr val="4f7ead"/>
                  </a:solidFill>
                  <a:latin typeface="Arial"/>
                </a:rPr>
                <a:t>Rigoutsos</a:t>
              </a:r>
              <a:br>
                <a:rPr sz="2000"/>
              </a:br>
              <a:r>
                <a:rPr b="1" lang="en-US" sz="2000" spc="-1" strike="noStrike">
                  <a:solidFill>
                    <a:srgbClr val="4f7ead"/>
                  </a:solidFill>
                  <a:latin typeface="Arial"/>
                </a:rPr>
                <a:t>Cluster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618320" y="2957400"/>
              <a:ext cx="1256760" cy="703800"/>
            </a:xfrm>
            <a:prstGeom prst="rect">
              <a:avLst/>
            </a:prstGeom>
            <a:noFill/>
            <a:ln w="28440">
              <a:solidFill>
                <a:srgbClr val="7777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777777"/>
                  </a:solidFill>
                  <a:latin typeface="Arial"/>
                </a:rPr>
                <a:t>Load</a:t>
              </a:r>
              <a:br>
                <a:rPr sz="2000"/>
              </a:br>
              <a:r>
                <a:rPr b="1" lang="en-US" sz="2000" spc="-1" strike="noStrike">
                  <a:solidFill>
                    <a:srgbClr val="777777"/>
                  </a:solidFill>
                  <a:latin typeface="Arial"/>
                </a:rPr>
                <a:t>Balanc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838520" y="1562040"/>
              <a:ext cx="2230560" cy="703800"/>
            </a:xfrm>
            <a:prstGeom prst="rect">
              <a:avLst/>
            </a:prstGeom>
            <a:noFill/>
            <a:ln w="28440">
              <a:solidFill>
                <a:srgbClr val="4f7e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f7ead"/>
                  </a:solidFill>
                  <a:latin typeface="Arial"/>
                </a:rPr>
                <a:t>Time Refinement</a:t>
              </a:r>
              <a:br>
                <a:rPr sz="2000"/>
              </a:br>
              <a:r>
                <a:rPr b="1" lang="en-US" sz="2000" spc="-1" strike="noStrike">
                  <a:solidFill>
                    <a:srgbClr val="4f7ead"/>
                  </a:solidFill>
                  <a:latin typeface="Arial"/>
                </a:rPr>
                <a:t>Integr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44160" y="2890800"/>
              <a:ext cx="1581120" cy="703800"/>
            </a:xfrm>
            <a:prstGeom prst="rect">
              <a:avLst/>
            </a:prstGeom>
            <a:noFill/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800080"/>
                  </a:solidFill>
                  <a:latin typeface="Arial"/>
                </a:rPr>
                <a:t>Hierarchy</a:t>
              </a:r>
              <a:br>
                <a:rPr sz="2000"/>
              </a:br>
              <a:r>
                <a:rPr b="1" lang="en-US" sz="2000" spc="-1" strike="noStrike">
                  <a:solidFill>
                    <a:srgbClr val="800080"/>
                  </a:solidFill>
                  <a:latin typeface="Arial"/>
                </a:rPr>
                <a:t>Descrip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29920" y="1562040"/>
              <a:ext cx="1523520" cy="703800"/>
            </a:xfrm>
            <a:prstGeom prst="rect">
              <a:avLst/>
            </a:prstGeom>
            <a:noFill/>
            <a:ln w="28440">
              <a:solidFill>
                <a:srgbClr val="0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c0c0"/>
                  </a:solidFill>
                  <a:latin typeface="Arial"/>
                </a:rPr>
                <a:t>Regridding</a:t>
              </a:r>
              <a:br>
                <a:rPr sz="2000"/>
              </a:br>
              <a:r>
                <a:rPr b="1" lang="en-US" sz="2000" spc="-1" strike="noStrike">
                  <a:solidFill>
                    <a:srgbClr val="00c0c0"/>
                  </a:solidFill>
                  <a:latin typeface="Arial"/>
                </a:rPr>
                <a:t>Algorith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3" name=""/>
            <p:cNvCxnSpPr>
              <a:stCxn id="110" idx="2"/>
              <a:endCxn id="111" idx="0"/>
            </p:cNvCxnSpPr>
            <p:nvPr/>
          </p:nvCxnSpPr>
          <p:spPr>
            <a:xfrm flipH="1">
              <a:off x="1134000" y="2306160"/>
              <a:ext cx="1819800" cy="57060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4" name=""/>
            <p:cNvCxnSpPr>
              <a:stCxn id="110" idx="3"/>
              <a:endCxn id="112" idx="1"/>
            </p:cNvCxnSpPr>
            <p:nvPr/>
          </p:nvCxnSpPr>
          <p:spPr>
            <a:xfrm>
              <a:off x="4097160" y="1926720"/>
              <a:ext cx="180360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5" name=""/>
            <p:cNvCxnSpPr>
              <a:stCxn id="112" idx="2"/>
              <a:endCxn id="107" idx="0"/>
            </p:cNvCxnSpPr>
            <p:nvPr/>
          </p:nvCxnSpPr>
          <p:spPr>
            <a:xfrm flipH="1">
              <a:off x="5120280" y="2306160"/>
              <a:ext cx="1572120" cy="63756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6" name=""/>
            <p:cNvCxnSpPr>
              <a:stCxn id="112" idx="2"/>
              <a:endCxn id="108" idx="0"/>
            </p:cNvCxnSpPr>
            <p:nvPr/>
          </p:nvCxnSpPr>
          <p:spPr>
            <a:xfrm flipH="1">
              <a:off x="6676200" y="2306160"/>
              <a:ext cx="16560" cy="4849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7" name=""/>
            <p:cNvCxnSpPr>
              <a:stCxn id="112" idx="2"/>
              <a:endCxn id="109" idx="0"/>
            </p:cNvCxnSpPr>
            <p:nvPr/>
          </p:nvCxnSpPr>
          <p:spPr>
            <a:xfrm>
              <a:off x="6692760" y="2306160"/>
              <a:ext cx="1554480" cy="63756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18" name=""/>
          <p:cNvGrpSpPr/>
          <p:nvPr/>
        </p:nvGrpSpPr>
        <p:grpSpPr>
          <a:xfrm>
            <a:off x="6772320" y="4735440"/>
            <a:ext cx="2179440" cy="1008720"/>
            <a:chOff x="6772320" y="4735440"/>
            <a:chExt cx="2179440" cy="1008720"/>
          </a:xfrm>
        </p:grpSpPr>
        <p:sp>
          <p:nvSpPr>
            <p:cNvPr id="119" name=""/>
            <p:cNvSpPr/>
            <p:nvPr/>
          </p:nvSpPr>
          <p:spPr>
            <a:xfrm>
              <a:off x="7088400" y="4735440"/>
              <a:ext cx="1863360" cy="1008720"/>
            </a:xfrm>
            <a:prstGeom prst="rect">
              <a:avLst/>
            </a:prstGeom>
            <a:noFill/>
            <a:ln w="284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66ff"/>
                  </a:solidFill>
                  <a:latin typeface="Arial"/>
                </a:rPr>
                <a:t>Ion Advection</a:t>
              </a:r>
              <a:br>
                <a:rPr sz="2000"/>
              </a:br>
              <a:r>
                <a:rPr b="1" lang="en-US" sz="2000" spc="-1" strike="noStrike">
                  <a:solidFill>
                    <a:srgbClr val="0066ff"/>
                  </a:solidFill>
                  <a:latin typeface="Arial"/>
                </a:rPr>
                <a:t>Numerical</a:t>
              </a:r>
              <a:br>
                <a:rPr sz="2000"/>
              </a:br>
              <a:r>
                <a:rPr b="1" lang="en-US" sz="2000" spc="-1" strike="noStrike">
                  <a:solidFill>
                    <a:srgbClr val="0066ff"/>
                  </a:solidFill>
                  <a:latin typeface="Arial"/>
                </a:rPr>
                <a:t>Routin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0" name=""/>
            <p:cNvCxnSpPr>
              <a:stCxn id="121" idx="3"/>
              <a:endCxn id="119" idx="1"/>
            </p:cNvCxnSpPr>
            <p:nvPr/>
          </p:nvCxnSpPr>
          <p:spPr>
            <a:xfrm>
              <a:off x="6772320" y="5249520"/>
              <a:ext cx="288000" cy="396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22" name=""/>
          <p:cNvGrpSpPr/>
          <p:nvPr/>
        </p:nvGrpSpPr>
        <p:grpSpPr>
          <a:xfrm>
            <a:off x="326160" y="4367160"/>
            <a:ext cx="2751480" cy="1516680"/>
            <a:chOff x="326160" y="4367160"/>
            <a:chExt cx="2751480" cy="1516680"/>
          </a:xfrm>
        </p:grpSpPr>
        <p:sp>
          <p:nvSpPr>
            <p:cNvPr id="123" name=""/>
            <p:cNvSpPr/>
            <p:nvPr/>
          </p:nvSpPr>
          <p:spPr>
            <a:xfrm>
              <a:off x="326160" y="4875120"/>
              <a:ext cx="1665000" cy="1008720"/>
            </a:xfrm>
            <a:prstGeom prst="rect">
              <a:avLst/>
            </a:prstGeom>
            <a:noFill/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cc00"/>
                  </a:solidFill>
                  <a:latin typeface="Arial"/>
                </a:rPr>
                <a:t>Light</a:t>
              </a:r>
              <a:br>
                <a:rPr sz="2000"/>
              </a:br>
              <a:r>
                <a:rPr b="1" lang="en-US" sz="2000" spc="-1" strike="noStrike">
                  <a:solidFill>
                    <a:srgbClr val="ffcc00"/>
                  </a:solidFill>
                  <a:latin typeface="Arial"/>
                </a:rPr>
                <a:t>Propagation</a:t>
              </a:r>
              <a:br>
                <a:rPr sz="2000"/>
              </a:br>
              <a:r>
                <a:rPr b="1" lang="en-US" sz="2000" spc="-1" strike="noStrike">
                  <a:solidFill>
                    <a:srgbClr val="ffcc00"/>
                  </a:solidFill>
                  <a:latin typeface="Arial"/>
                </a:rPr>
                <a:t>Routin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4" name=""/>
            <p:cNvCxnSpPr>
              <a:stCxn id="125" idx="2"/>
              <a:endCxn id="123" idx="0"/>
            </p:cNvCxnSpPr>
            <p:nvPr/>
          </p:nvCxnSpPr>
          <p:spPr>
            <a:xfrm flipH="1">
              <a:off x="1158120" y="4367160"/>
              <a:ext cx="1919880" cy="49464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26" name=""/>
          <p:cNvGrpSpPr/>
          <p:nvPr/>
        </p:nvGrpSpPr>
        <p:grpSpPr>
          <a:xfrm>
            <a:off x="2348280" y="4367160"/>
            <a:ext cx="1709280" cy="1305360"/>
            <a:chOff x="2348280" y="4367160"/>
            <a:chExt cx="1709280" cy="1305360"/>
          </a:xfrm>
        </p:grpSpPr>
        <p:sp>
          <p:nvSpPr>
            <p:cNvPr id="127" name=""/>
            <p:cNvSpPr/>
            <p:nvPr/>
          </p:nvSpPr>
          <p:spPr>
            <a:xfrm>
              <a:off x="2348280" y="4968720"/>
              <a:ext cx="1709280" cy="703800"/>
            </a:xfrm>
            <a:prstGeom prst="rect">
              <a:avLst/>
            </a:prstGeom>
            <a:noFill/>
            <a:ln w="28440">
              <a:solidFill>
                <a:srgbClr val="00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c000"/>
                  </a:solidFill>
                  <a:latin typeface="Arial"/>
                </a:rPr>
                <a:t>Electrostatic</a:t>
              </a:r>
              <a:br>
                <a:rPr sz="2000"/>
              </a:br>
              <a:r>
                <a:rPr b="1" lang="en-US" sz="2000" spc="-1" strike="noStrike">
                  <a:solidFill>
                    <a:srgbClr val="00c000"/>
                  </a:solidFill>
                  <a:latin typeface="Arial"/>
                </a:rPr>
                <a:t>Field Solv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8" name=""/>
            <p:cNvCxnSpPr>
              <a:stCxn id="125" idx="2"/>
              <a:endCxn id="127" idx="0"/>
            </p:cNvCxnSpPr>
            <p:nvPr/>
          </p:nvCxnSpPr>
          <p:spPr>
            <a:xfrm>
              <a:off x="3077640" y="4367160"/>
              <a:ext cx="126360" cy="58824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21" name=""/>
          <p:cNvSpPr/>
          <p:nvPr/>
        </p:nvSpPr>
        <p:spPr>
          <a:xfrm>
            <a:off x="4527000" y="4732200"/>
            <a:ext cx="2216880" cy="1008720"/>
          </a:xfrm>
          <a:prstGeom prst="rect">
            <a:avLst/>
          </a:prstGeom>
          <a:noFill/>
          <a:ln w="2844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Conservative</a:t>
            </a:r>
            <a:br>
              <a:rPr sz="2000"/>
            </a:b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Hyperbolic Level</a:t>
            </a:r>
            <a:br>
              <a:rPr sz="2000"/>
            </a:b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Integ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2160360" y="2306520"/>
            <a:ext cx="3475440" cy="2411280"/>
            <a:chOff x="2160360" y="2306520"/>
            <a:chExt cx="3475440" cy="2411280"/>
          </a:xfrm>
        </p:grpSpPr>
        <p:cxnSp>
          <p:nvCxnSpPr>
            <p:cNvPr id="130" name=""/>
            <p:cNvCxnSpPr>
              <a:stCxn id="125" idx="2"/>
              <a:endCxn id="121" idx="0"/>
            </p:cNvCxnSpPr>
            <p:nvPr/>
          </p:nvCxnSpPr>
          <p:spPr>
            <a:xfrm>
              <a:off x="3077640" y="4366800"/>
              <a:ext cx="2558520" cy="35136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25" name=""/>
            <p:cNvSpPr/>
            <p:nvPr/>
          </p:nvSpPr>
          <p:spPr>
            <a:xfrm>
              <a:off x="2160360" y="3622680"/>
              <a:ext cx="1835640" cy="70380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Laser-Plasma</a:t>
              </a:r>
              <a:br>
                <a:rPr sz="2000"/>
              </a:b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Integr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1" name=""/>
            <p:cNvCxnSpPr>
              <a:stCxn id="110" idx="2"/>
              <a:endCxn id="125" idx="0"/>
            </p:cNvCxnSpPr>
            <p:nvPr/>
          </p:nvCxnSpPr>
          <p:spPr>
            <a:xfrm>
              <a:off x="2954160" y="2306520"/>
              <a:ext cx="124560" cy="13024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2" name=""/>
            <p:cNvCxnSpPr>
              <a:stCxn id="107" idx="1"/>
              <a:endCxn id="125" idx="0"/>
            </p:cNvCxnSpPr>
            <p:nvPr/>
          </p:nvCxnSpPr>
          <p:spPr>
            <a:xfrm flipH="1">
              <a:off x="3078000" y="3322440"/>
              <a:ext cx="1400760" cy="28620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33" name=""/>
          <p:cNvGrpSpPr/>
          <p:nvPr/>
        </p:nvGrpSpPr>
        <p:grpSpPr>
          <a:xfrm>
            <a:off x="3108960" y="5713560"/>
            <a:ext cx="3262320" cy="845280"/>
            <a:chOff x="3108960" y="5713560"/>
            <a:chExt cx="3262320" cy="845280"/>
          </a:xfrm>
        </p:grpSpPr>
        <p:sp>
          <p:nvSpPr>
            <p:cNvPr id="134" name=""/>
            <p:cNvSpPr/>
            <p:nvPr/>
          </p:nvSpPr>
          <p:spPr>
            <a:xfrm>
              <a:off x="3108960" y="6099120"/>
              <a:ext cx="3262320" cy="459720"/>
            </a:xfrm>
            <a:prstGeom prst="rect">
              <a:avLst/>
            </a:prstGeom>
            <a:noFill/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6600"/>
                  </a:solidFill>
                  <a:latin typeface="Arial"/>
                </a:rPr>
                <a:t>Poisson Hierarchy Solv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5" name=""/>
            <p:cNvCxnSpPr>
              <a:stCxn id="127" idx="2"/>
              <a:endCxn id="134" idx="0"/>
            </p:cNvCxnSpPr>
            <p:nvPr/>
          </p:nvCxnSpPr>
          <p:spPr>
            <a:xfrm>
              <a:off x="3203640" y="5713560"/>
              <a:ext cx="1537200" cy="41976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E7EA3-A0A5-4E8C-BC77-C92ED48A4A5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06T09:34:19Z</dcterms:created>
  <dc:creator>Scott Kohn</dc:creator>
  <dc:description/>
  <dc:language>en-US</dc:language>
  <cp:lastModifiedBy>skohn</cp:lastModifiedBy>
  <cp:lastPrinted>2000-11-06T21:04:45Z</cp:lastPrinted>
  <dcterms:modified xsi:type="dcterms:W3CDTF">2000-11-06T21:04:53Z</dcterms:modified>
  <cp:revision>385</cp:revision>
  <dc:subject>CCA Interoperability and the CORBA IDL</dc:subject>
  <dc:title>CCA Interoperability</dc:title>
</cp:coreProperties>
</file>