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A636849-C41B-4DE0-8187-6C178FCA8AA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Img"/>
          </p:nvPr>
        </p:nvSpPr>
        <p:spPr>
          <a:xfrm>
            <a:off x="1152360" y="691920"/>
            <a:ext cx="455472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52360" y="690480"/>
            <a:ext cx="4553280" cy="34149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2960" y="434160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4A34-ED6E-41A3-A8AF-FCE9F30B9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8680" y="413244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9016-E2D7-4B96-A54D-82A0F013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44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AF88-E927-4DE9-9968-3B7F70605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136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404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868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136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404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9BCF-7C8C-4A1D-826F-9FAAFB326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E999-627B-42C4-969B-415CBC96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B549-558D-458E-AC10-3B2202E3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2172-A1EE-466E-B919-9930F308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A2FE-217D-4F87-A1BF-3436FC99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0789-4274-4836-9C6D-BA4F28EF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7074-D0D3-4B06-BA00-8B2F32C3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44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0FE3-0278-4F72-9ACC-F4DF7059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C30B-B742-4323-8AEC-459F4022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0E1A-CD80-4E78-9A36-1ADDAE526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20840" indent="-2286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6356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8520" y="6591240"/>
            <a:ext cx="70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6089"/>
                </a:solidFill>
                <a:latin typeface="Arial"/>
              </a:rPr>
              <a:t>CA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7" name="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8951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ott Kohn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rew Cleary, Steven G. Smith, and Brent Smolinski</a:t>
            </a:r>
            <a:br>
              <a:rPr sz="2400"/>
            </a:br>
            <a:br>
              <a:rPr sz="24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enter for Applied Scientific Computing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awrence Livermore National Laboratory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tober 21, 199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7840" y="5892840"/>
            <a:ext cx="2286000" cy="851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873920" y="6022800"/>
            <a:ext cx="673200" cy="650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4920" y="114300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Interoperability Mechanism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6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-Performance Scientific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33520" y="824040"/>
            <a:ext cx="8076960" cy="152280"/>
            <a:chOff x="533520" y="824040"/>
            <a:chExt cx="8076960" cy="152280"/>
          </a:xfrm>
        </p:grpSpPr>
        <p:sp>
          <p:nvSpPr>
            <p:cNvPr id="57" name=""/>
            <p:cNvSpPr/>
            <p:nvPr/>
          </p:nvSpPr>
          <p:spPr>
            <a:xfrm>
              <a:off x="533520" y="824040"/>
              <a:ext cx="8076960" cy="74520"/>
            </a:xfrm>
            <a:prstGeom prst="rect">
              <a:avLst/>
            </a:prstGeom>
            <a:gradFill rotWithShape="0">
              <a:gsLst>
                <a:gs pos="0">
                  <a:srgbClr val="10add0"/>
                </a:gs>
                <a:gs pos="50000">
                  <a:srgbClr val="12c2e9"/>
                </a:gs>
                <a:gs pos="100000">
                  <a:srgbClr val="10ad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3520" y="938160"/>
              <a:ext cx="807696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33520" y="2508120"/>
            <a:ext cx="8076960" cy="152640"/>
            <a:chOff x="533520" y="2508120"/>
            <a:chExt cx="8076960" cy="152640"/>
          </a:xfrm>
        </p:grpSpPr>
        <p:sp>
          <p:nvSpPr>
            <p:cNvPr id="60" name=""/>
            <p:cNvSpPr/>
            <p:nvPr/>
          </p:nvSpPr>
          <p:spPr>
            <a:xfrm>
              <a:off x="533520" y="2508120"/>
              <a:ext cx="8076960" cy="74880"/>
            </a:xfrm>
            <a:prstGeom prst="rect">
              <a:avLst/>
            </a:prstGeom>
            <a:gradFill rotWithShape="0">
              <a:gsLst>
                <a:gs pos="0">
                  <a:srgbClr val="10add0"/>
                </a:gs>
                <a:gs pos="50000">
                  <a:srgbClr val="12c2e9"/>
                </a:gs>
                <a:gs pos="100000">
                  <a:srgbClr val="10ad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3520" y="2622600"/>
              <a:ext cx="807696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L glue code bridges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3280" y="3200400"/>
            <a:ext cx="3842640" cy="1552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600" spc="-1" strike="noStrike">
                <a:solidFill>
                  <a:srgbClr val="006b61"/>
                </a:solidFill>
                <a:latin typeface="Courier New"/>
              </a:rPr>
              <a:t>Solve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dot(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31960" y="1741320"/>
            <a:ext cx="1680480" cy="398880"/>
          </a:xfrm>
          <a:prstGeom prst="rect">
            <a:avLst/>
          </a:prstGeom>
          <a:noFill/>
          <a:ln w="2844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Library 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09520" y="2752560"/>
            <a:ext cx="2925360" cy="398880"/>
          </a:xfrm>
          <a:prstGeom prst="rect">
            <a:avLst/>
          </a:prstGeom>
          <a:noFill/>
          <a:ln w="2844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Solver_Vector_dot (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540040" y="3765600"/>
            <a:ext cx="3065760" cy="398880"/>
          </a:xfrm>
          <a:prstGeom prst="rect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IDL “Run-Time System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80720" y="4778280"/>
            <a:ext cx="2983320" cy="398880"/>
          </a:xfrm>
          <a:prstGeom prst="rect">
            <a:avLst/>
          </a:prstGeom>
          <a:noFill/>
          <a:ln w="2844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Solver::Vector::dot (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75320" y="5791320"/>
            <a:ext cx="2992680" cy="398880"/>
          </a:xfrm>
          <a:prstGeom prst="rect">
            <a:avLst/>
          </a:prstGeom>
          <a:noFill/>
          <a:ln w="2844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Library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39200" y="266688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stu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9880" y="495288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skelet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0" idx="2"/>
            <a:endCxn id="181" idx="0"/>
          </p:cNvCxnSpPr>
          <p:nvPr/>
        </p:nvCxnSpPr>
        <p:spPr>
          <a:xfrm>
            <a:off x="7071840" y="2181240"/>
            <a:ext cx="1080" cy="558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81" idx="2"/>
            <a:endCxn id="182" idx="0"/>
          </p:cNvCxnSpPr>
          <p:nvPr/>
        </p:nvCxnSpPr>
        <p:spPr>
          <a:xfrm>
            <a:off x="7071840" y="3192480"/>
            <a:ext cx="2520" cy="559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82" idx="2"/>
            <a:endCxn id="183" idx="0"/>
          </p:cNvCxnSpPr>
          <p:nvPr/>
        </p:nvCxnSpPr>
        <p:spPr>
          <a:xfrm flipH="1">
            <a:off x="7071480" y="4204800"/>
            <a:ext cx="2520" cy="559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83" idx="2"/>
            <a:endCxn id="184" idx="0"/>
          </p:cNvCxnSpPr>
          <p:nvPr/>
        </p:nvCxnSpPr>
        <p:spPr>
          <a:xfrm>
            <a:off x="7071840" y="5218200"/>
            <a:ext cx="1080" cy="559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4343400" y="4800600"/>
            <a:ext cx="10666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343400" y="2971440"/>
            <a:ext cx="11430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ling the IDL stubs from user c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903760" y="1523880"/>
            <a:ext cx="5301360" cy="1372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error(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::Matrix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A, 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::Vect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::Vect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r = x.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clon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.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appl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, 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(r.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do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05560" y="4876920"/>
            <a:ext cx="4127760" cy="1798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precision function error(A, 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intege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A, x, 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 =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Vector_clon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Matrix_appl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A, r, 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rror =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Vector_do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, 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Vector_delet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04480" y="2987640"/>
            <a:ext cx="5087520" cy="1798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error(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_Matrix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A, 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_Vect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_Vect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r =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Vector_clon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Matrix_appl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A, r, 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result =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 Solver_Vector_do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, 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Vector_delet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(resul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9560" y="1963800"/>
            <a:ext cx="85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Arial"/>
              </a:rPr>
              <a:t>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76920" y="36399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08040" y="53452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48400" y="552780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Arial"/>
              </a:rPr>
              <a:t>f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551000" y="5715000"/>
            <a:ext cx="124128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-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data copies (means single address-spac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head of a C++ virtual function call (or maybe a few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s in either a threaded or MPI environ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guage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, C++, Fortran 77/90 in “high-performance” m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 and Python with maybe a little more overhe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stigate support for prototyping tools like MatLa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bility for 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fficiently general to express most scientific interf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st be object oriented and support error mechanis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380520" y="30492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goals for the interoperability of high-performance scientific softw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29844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earch issues for scientific interoper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rage existing technology where appropri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BA and ILU IDLs and language mapp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 inheritance and introspection ide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features are needed in a “Scientific IDL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ping the “Scientific IDL” onto Fortr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ance and overheads in the run-tim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research approach in our pro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e a simple prototype can work in a scientific environ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… add new features (e.g., distributed computa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our “Scientific IDL” looks lik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496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7840" indent="-44784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with the CORBA 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 oriented, exceptions, namesp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tax similar to Java and C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pings to all languages of interest but Fortr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iminate (for now, anyway) unnecessary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-way qualif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 and union (performance and Fortran consideration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BA arrays and sequences (replaced - see below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new data types and fix stupid th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BA inheritance model broken - adopt Jav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complex type and dynamic multidimensional arr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static and final qualifiers for metho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ew IDL looks a lot like Jav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249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L specification for a linear solver pack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1600200"/>
            <a:ext cx="8686800" cy="5030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Solv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lon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dot(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xpy(in double a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initialize(in array&lt;double,1&gt; data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Sparse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, RowAddressi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C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Krylov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AbstractSolv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solve(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,...) throws </a:t>
            </a:r>
            <a:r>
              <a:rPr b="1" lang="en-US" sz="1800" spc="-1" strike="noStrike">
                <a:solidFill>
                  <a:srgbClr val="ff0033"/>
                </a:solidFill>
                <a:latin typeface="Courier New"/>
              </a:rPr>
              <a:t>ConvergenceExceptio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093080" y="2057400"/>
            <a:ext cx="136944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on of IDL expressi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47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fficiently expressive for some numerical pack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KINSOL, structured AMR linear solvers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oked at some parts of the PETSc pack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 system limited to types expressible in the 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pointers and currently no templ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s with external opaque objects (e.g.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PI_Com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… only high-level interfaces will be expressed in the ID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than just the intersection of language capab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atures can be supported through the run-tim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object-oriented support in C or f7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introspection, RTTI, reference counting, exceptions …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mapping iss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2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ran 77/90 are the only real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, C++, Java mappings are defined by CORB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mappings are defined by IL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constructs do not add to complexity of language map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ts val="2798"/>
              </a:lnSpc>
              <a:spcBef>
                <a:spcPts val="20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ran 77 should be 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 C bindings for function na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aque object references become integers (as in MPI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structs or unions needed (or can be mapped to object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ts val="2798"/>
              </a:lnSpc>
              <a:spcBef>
                <a:spcPts val="20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ran 90 will be major pain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use f77 mapping and not exploit expanded typ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nt IDL arrays to map onto Fortran 90 arr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ing sequences and array descriptors compiler-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… doing this by hand would be almost impossi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formance and the run-time 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ned run-time system is very si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 address space (perhaps distributed lat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L design means no data copies (perhaps array transpos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ymorphism requires function tables as in C++ or PETS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head is a few function calls (could be inlined awa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what do we need in a run-time syste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ation of vtables for Java inheritance mod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/down casting and introspection quer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 reference coun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ption support as in CORBA (really just error return cod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miscellaneous stuff (complex numbers in C, etc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ct status and future develop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implementation sta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ser/analyzer written in Java with JavaC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type for polymorphism/multiple inheritance support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ing prototype with parser stub gen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e development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e the technology can work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 interoperability for C, C++, and f7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 language mappings for f9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language mappings for Java, Python, and MatLab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distributed capabilities (borrow existing technolog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8724960" cy="361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ditional interoperability mechanis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of IDL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an IDL for interoperability in scientific compu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a “Scientific IDL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tran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ance conside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and 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6002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c6d9c"/>
                </a:solidFill>
                <a:uFillTx/>
                <a:latin typeface="Arial"/>
              </a:rPr>
              <a:t>Goal</a:t>
            </a:r>
            <a:r>
              <a:rPr b="1" lang="en-US" sz="2400" spc="-1" strike="noStrike">
                <a:solidFill>
                  <a:srgbClr val="0c6d9c"/>
                </a:solidFill>
                <a:latin typeface="Arial"/>
              </a:rPr>
              <a:t>:  Apply IDL interoperability technology to problems in high-performance parallel scientific 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sis and conclu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s of the IDL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interoperability (even for Fortran 90!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c support for object oriented features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ressive enough for many numerical libraries (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L provides a nice description language for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cally generates type information for introsp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dvantages and potential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brary designers write the IDL description (but … it’s simpl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mapping may not be as “natural” as if by h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s are limited to the IDL typ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the alternative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 performed under the auspices of the U.S. Departme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Energy by Lawrence Livermore National Laboratory under Contract W-7405-Eng-4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cument UCRL-MI-13182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#1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interoper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ed by Common Component Architecture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oss-lab interoperability of DOE numerical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E labs use many languages (f77, f90, C, C++, Java, Pyth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should not be a barrier to software re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3800" y="4343400"/>
            <a:ext cx="2907000" cy="70380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imulation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52640" y="5638680"/>
            <a:ext cx="1890720" cy="7038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Solv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(C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2920" y="5638680"/>
            <a:ext cx="2570400" cy="703800"/>
          </a:xfrm>
          <a:prstGeom prst="rect">
            <a:avLst/>
          </a:prstGeom>
          <a:noFill/>
          <a:ln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Numerical Rout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(f9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99640" y="3124080"/>
            <a:ext cx="2088720" cy="703800"/>
          </a:xfrm>
          <a:prstGeom prst="rect">
            <a:avLst/>
          </a:prstGeom>
          <a:noFill/>
          <a:ln w="3816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Scripting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(Pyth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08960" y="4343400"/>
            <a:ext cx="2710440" cy="703800"/>
          </a:xfrm>
          <a:prstGeom prst="rect">
            <a:avLst/>
          </a:prstGeom>
          <a:noFill/>
          <a:ln w="38160">
            <a:solidFill>
              <a:srgbClr val="00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Visualization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(Ja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70" idx="2"/>
            <a:endCxn id="67" idx="0"/>
          </p:cNvCxnSpPr>
          <p:nvPr/>
        </p:nvCxnSpPr>
        <p:spPr>
          <a:xfrm flipH="1">
            <a:off x="2157120" y="3882960"/>
            <a:ext cx="2488320" cy="442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3" name=""/>
          <p:cNvCxnSpPr>
            <a:stCxn id="70" idx="2"/>
            <a:endCxn id="71" idx="0"/>
          </p:cNvCxnSpPr>
          <p:nvPr/>
        </p:nvCxnSpPr>
        <p:spPr>
          <a:xfrm>
            <a:off x="4645080" y="3882960"/>
            <a:ext cx="2520000" cy="442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4" name=""/>
          <p:cNvCxnSpPr>
            <a:stCxn id="67" idx="2"/>
            <a:endCxn id="69" idx="0"/>
          </p:cNvCxnSpPr>
          <p:nvPr/>
        </p:nvCxnSpPr>
        <p:spPr>
          <a:xfrm flipH="1">
            <a:off x="1607760" y="5101920"/>
            <a:ext cx="550080" cy="518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5" name=""/>
          <p:cNvCxnSpPr>
            <a:stCxn id="67" idx="2"/>
            <a:endCxn id="68" idx="0"/>
          </p:cNvCxnSpPr>
          <p:nvPr/>
        </p:nvCxnSpPr>
        <p:spPr>
          <a:xfrm>
            <a:off x="2157480" y="5101920"/>
            <a:ext cx="2542320" cy="518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#2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 support for non-object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8572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nt object implementations in non-object langu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-oriented techniques useful for software archit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… many scientists are uncomfortable with C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PETSc library implements object-oriented features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 support is tedious and difficult if done by h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heritance and polymorphism require function lookup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 infrastructure must be built into each new 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L approach provides “automatic” object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L compiler automates generation of object “glue”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ymorphism, multiple inheritance, reference coun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spection, RTTI, simple exception mechan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57268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operability through language binding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64864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te custom bindings for each langu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or-intensive to generate bindings for supported langu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tailor binding to style and conventions of langu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roach taken in the MPI standardization eff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784680" y="5499000"/>
            <a:ext cx="1574640" cy="660600"/>
            <a:chOff x="3784680" y="5499000"/>
            <a:chExt cx="1574640" cy="660600"/>
          </a:xfrm>
        </p:grpSpPr>
        <p:sp>
          <p:nvSpPr>
            <p:cNvPr id="81" name=""/>
            <p:cNvSpPr/>
            <p:nvPr/>
          </p:nvSpPr>
          <p:spPr>
            <a:xfrm>
              <a:off x="3860640" y="5575320"/>
              <a:ext cx="1498680" cy="584280"/>
            </a:xfrm>
            <a:prstGeom prst="roundRect">
              <a:avLst>
                <a:gd name="adj" fmla="val 12495"/>
              </a:avLst>
            </a:prstGeom>
            <a:solidFill>
              <a:srgbClr val="ff0033"/>
            </a:solidFill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84680" y="5499000"/>
              <a:ext cx="1498680" cy="58428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07160" y="5592600"/>
              <a:ext cx="1047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33"/>
                  </a:solidFill>
                  <a:latin typeface="Arial"/>
                </a:rPr>
                <a:t>Libr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108160" y="3213000"/>
            <a:ext cx="1270080" cy="507960"/>
            <a:chOff x="2108160" y="3213000"/>
            <a:chExt cx="1270080" cy="507960"/>
          </a:xfrm>
        </p:grpSpPr>
        <p:sp>
          <p:nvSpPr>
            <p:cNvPr id="85" name=""/>
            <p:cNvSpPr/>
            <p:nvPr/>
          </p:nvSpPr>
          <p:spPr>
            <a:xfrm>
              <a:off x="2184480" y="3289320"/>
              <a:ext cx="1193760" cy="431640"/>
            </a:xfrm>
            <a:prstGeom prst="roundRect">
              <a:avLst>
                <a:gd name="adj" fmla="val 12495"/>
              </a:avLst>
            </a:prstGeom>
            <a:solidFill>
              <a:srgbClr val="0c6d9c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108160" y="3213000"/>
              <a:ext cx="1193760" cy="43200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66840" y="3230640"/>
              <a:ext cx="1076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Fortr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955880" y="4127400"/>
            <a:ext cx="1574640" cy="812880"/>
            <a:chOff x="1955880" y="4127400"/>
            <a:chExt cx="1574640" cy="812880"/>
          </a:xfrm>
        </p:grpSpPr>
        <p:sp>
          <p:nvSpPr>
            <p:cNvPr id="89" name=""/>
            <p:cNvSpPr/>
            <p:nvPr/>
          </p:nvSpPr>
          <p:spPr>
            <a:xfrm>
              <a:off x="2031840" y="420372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006b61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55880" y="412740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69280" y="4145040"/>
              <a:ext cx="1273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Fortran</a:t>
              </a:r>
              <a:br>
                <a:rPr sz="2000"/>
              </a:b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Binding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765760" y="3213000"/>
            <a:ext cx="1270080" cy="507960"/>
            <a:chOff x="5765760" y="3213000"/>
            <a:chExt cx="1270080" cy="507960"/>
          </a:xfrm>
        </p:grpSpPr>
        <p:sp>
          <p:nvSpPr>
            <p:cNvPr id="93" name=""/>
            <p:cNvSpPr/>
            <p:nvPr/>
          </p:nvSpPr>
          <p:spPr>
            <a:xfrm>
              <a:off x="5842080" y="3289320"/>
              <a:ext cx="1193760" cy="431640"/>
            </a:xfrm>
            <a:prstGeom prst="roundRect">
              <a:avLst>
                <a:gd name="adj" fmla="val 12495"/>
              </a:avLst>
            </a:prstGeom>
            <a:solidFill>
              <a:srgbClr val="0c6d9c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65760" y="3213000"/>
              <a:ext cx="1193760" cy="43200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28920" y="3230640"/>
              <a:ext cx="668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C+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936960" y="3213000"/>
            <a:ext cx="1270080" cy="507960"/>
            <a:chOff x="3936960" y="3213000"/>
            <a:chExt cx="1270080" cy="507960"/>
          </a:xfrm>
        </p:grpSpPr>
        <p:sp>
          <p:nvSpPr>
            <p:cNvPr id="97" name=""/>
            <p:cNvSpPr/>
            <p:nvPr/>
          </p:nvSpPr>
          <p:spPr>
            <a:xfrm>
              <a:off x="4013280" y="3289320"/>
              <a:ext cx="1193760" cy="431640"/>
            </a:xfrm>
            <a:prstGeom prst="roundRect">
              <a:avLst>
                <a:gd name="adj" fmla="val 12495"/>
              </a:avLst>
            </a:prstGeom>
            <a:solidFill>
              <a:srgbClr val="0c6d9c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36960" y="3213000"/>
              <a:ext cx="1193760" cy="43200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49520" y="3230640"/>
              <a:ext cx="369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784680" y="4127400"/>
            <a:ext cx="1574640" cy="812880"/>
            <a:chOff x="3784680" y="4127400"/>
            <a:chExt cx="1574640" cy="812880"/>
          </a:xfrm>
        </p:grpSpPr>
        <p:sp>
          <p:nvSpPr>
            <p:cNvPr id="101" name=""/>
            <p:cNvSpPr/>
            <p:nvPr/>
          </p:nvSpPr>
          <p:spPr>
            <a:xfrm>
              <a:off x="3860640" y="420372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006b61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84680" y="412740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98080" y="4145040"/>
              <a:ext cx="1273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C</a:t>
              </a:r>
              <a:br>
                <a:rPr sz="2000"/>
              </a:b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Binding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613480" y="4127400"/>
            <a:ext cx="1574640" cy="812880"/>
            <a:chOff x="5613480" y="4127400"/>
            <a:chExt cx="1574640" cy="812880"/>
          </a:xfrm>
        </p:grpSpPr>
        <p:sp>
          <p:nvSpPr>
            <p:cNvPr id="105" name=""/>
            <p:cNvSpPr/>
            <p:nvPr/>
          </p:nvSpPr>
          <p:spPr>
            <a:xfrm>
              <a:off x="5689440" y="420372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006b61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13480" y="412740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26880" y="4145040"/>
              <a:ext cx="1273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C++</a:t>
              </a:r>
              <a:br>
                <a:rPr sz="2000"/>
              </a:b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Binding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4572000" y="37339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37339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7339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572000" y="4952880"/>
            <a:ext cx="182880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49528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743200" y="4952880"/>
            <a:ext cx="182880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3886200"/>
            <a:ext cx="6705360" cy="251460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95280" y="518148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ivered with the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operability through custom solu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156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ques that target small collections of langu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eign call interfaces or automatic glue code gener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SWIG wraps C and C++ for calls from scripting langu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very general - limited only to subsets of langu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3657600"/>
            <a:ext cx="94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J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N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W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14440" y="41911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57400" y="5168880"/>
            <a:ext cx="6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17120" y="32767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77840" y="41911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25920" y="516888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17040" y="60958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0" idx="0"/>
            <a:endCxn id="119" idx="2"/>
          </p:cNvCxnSpPr>
          <p:nvPr/>
        </p:nvCxnSpPr>
        <p:spPr>
          <a:xfrm flipV="1">
            <a:off x="2388960" y="4587840"/>
            <a:ext cx="108360" cy="581400"/>
          </a:xfrm>
          <a:prstGeom prst="straightConnector1">
            <a:avLst/>
          </a:prstGeom>
          <a:ln w="28440">
            <a:solidFill>
              <a:srgbClr val="006b61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0" idx="2"/>
            <a:endCxn id="124" idx="0"/>
          </p:cNvCxnSpPr>
          <p:nvPr/>
        </p:nvCxnSpPr>
        <p:spPr>
          <a:xfrm>
            <a:off x="2389320" y="5565240"/>
            <a:ext cx="2202480" cy="531000"/>
          </a:xfrm>
          <a:prstGeom prst="straightConnector1">
            <a:avLst/>
          </a:prstGeom>
          <a:ln w="2844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7" name=""/>
          <p:cNvCxnSpPr>
            <a:stCxn id="120" idx="3"/>
            <a:endCxn id="123" idx="1"/>
          </p:cNvCxnSpPr>
          <p:nvPr/>
        </p:nvCxnSpPr>
        <p:spPr>
          <a:xfrm>
            <a:off x="2720880" y="5366880"/>
            <a:ext cx="3604320" cy="1080"/>
          </a:xfrm>
          <a:prstGeom prst="straightConnector1">
            <a:avLst/>
          </a:prstGeom>
          <a:ln w="28440">
            <a:solidFill>
              <a:srgbClr val="800080"/>
            </a:solidFill>
            <a:miter/>
            <a:headEnd len="med" type="triangle" w="med"/>
          </a:ln>
        </p:spPr>
      </p:cxnSp>
      <p:cxnSp>
        <p:nvCxnSpPr>
          <p:cNvPr id="128" name=""/>
          <p:cNvCxnSpPr>
            <a:stCxn id="119" idx="0"/>
            <a:endCxn id="121" idx="1"/>
          </p:cNvCxnSpPr>
          <p:nvPr/>
        </p:nvCxnSpPr>
        <p:spPr>
          <a:xfrm flipV="1">
            <a:off x="2496960" y="3474360"/>
            <a:ext cx="1820160" cy="716760"/>
          </a:xfrm>
          <a:prstGeom prst="straightConnector1">
            <a:avLst/>
          </a:prstGeom>
          <a:ln w="28440">
            <a:solidFill>
              <a:srgbClr val="006b61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2" idx="0"/>
            <a:endCxn id="121" idx="3"/>
          </p:cNvCxnSpPr>
          <p:nvPr/>
        </p:nvCxnSpPr>
        <p:spPr>
          <a:xfrm flipH="1" flipV="1">
            <a:off x="4866480" y="3474360"/>
            <a:ext cx="1886760" cy="716760"/>
          </a:xfrm>
          <a:prstGeom prst="straightConnector1">
            <a:avLst/>
          </a:prstGeom>
          <a:ln w="28440">
            <a:solidFill>
              <a:srgbClr val="006b61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24" idx="0"/>
            <a:endCxn id="119" idx="3"/>
          </p:cNvCxnSpPr>
          <p:nvPr/>
        </p:nvCxnSpPr>
        <p:spPr>
          <a:xfrm flipH="1" flipV="1">
            <a:off x="2680560" y="4389120"/>
            <a:ext cx="1910520" cy="1707120"/>
          </a:xfrm>
          <a:prstGeom prst="straightConnector1">
            <a:avLst/>
          </a:prstGeom>
          <a:ln w="2844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1" name=""/>
          <p:cNvCxnSpPr>
            <a:stCxn id="123" idx="1"/>
            <a:endCxn id="119" idx="3"/>
          </p:cNvCxnSpPr>
          <p:nvPr/>
        </p:nvCxnSpPr>
        <p:spPr>
          <a:xfrm flipH="1" flipV="1">
            <a:off x="2680920" y="4389120"/>
            <a:ext cx="3643920" cy="978480"/>
          </a:xfrm>
          <a:prstGeom prst="straightConnector1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0" idx="0"/>
            <a:endCxn id="121" idx="2"/>
          </p:cNvCxnSpPr>
          <p:nvPr/>
        </p:nvCxnSpPr>
        <p:spPr>
          <a:xfrm flipV="1">
            <a:off x="2389320" y="3673080"/>
            <a:ext cx="2203920" cy="1496160"/>
          </a:xfrm>
          <a:prstGeom prst="straightConnector1">
            <a:avLst/>
          </a:prstGeom>
          <a:ln w="28440">
            <a:solidFill>
              <a:srgbClr val="006b61"/>
            </a:solidFill>
            <a:miter/>
            <a:tailEnd len="med" type="triangle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038480" y="4267080"/>
            <a:ext cx="9144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operability through an ID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156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 objects in an “interface definition language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language interoperates with the “IDL language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L compiler generates “glue” that wraps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:  CORBA, DCOM, ILU, RPC, microkernel O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0120" y="4076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81080" y="5016600"/>
            <a:ext cx="6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40800" y="31240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96920" y="407664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49960" y="501660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41080" y="5943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00480" y="45259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I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4267080"/>
            <a:ext cx="1447560" cy="38124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95680" y="3505320"/>
            <a:ext cx="0" cy="76176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952880" y="4266720"/>
            <a:ext cx="1600200" cy="38124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4876920"/>
            <a:ext cx="1371600" cy="38088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666880" y="4876920"/>
            <a:ext cx="1371600" cy="38088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08640" y="5181480"/>
            <a:ext cx="0" cy="83844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L: Interface Definition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18680" y="1486080"/>
            <a:ext cx="8318520" cy="12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arative interface description langu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s interface only (no implementation detail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-independent way to describe object AP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97400" y="2743200"/>
            <a:ext cx="5671440" cy="374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600" spc="-1" strike="noStrike">
                <a:solidFill>
                  <a:srgbClr val="006b61"/>
                </a:solidFill>
                <a:latin typeface="Courier New"/>
              </a:rPr>
              <a:t>Solve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lon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dot(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axpy(in double a, 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600" spc="-1" strike="noStrike">
                <a:solidFill>
                  <a:srgbClr val="800080"/>
                </a:solidFill>
                <a:latin typeface="Courier New"/>
              </a:rPr>
              <a:t>Matri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US" sz="1600" spc="-1" strike="noStrike">
                <a:solidFill>
                  <a:srgbClr val="ff0033"/>
                </a:solidFill>
                <a:latin typeface="Courier New"/>
              </a:rPr>
              <a:t>SparseMatri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1600" spc="-1" strike="noStrike">
                <a:solidFill>
                  <a:srgbClr val="800080"/>
                </a:solidFill>
                <a:latin typeface="Courier New"/>
              </a:rPr>
              <a:t>Matri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iler generates “glue” code from ID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858600" y="1555920"/>
            <a:ext cx="7908840" cy="5015160"/>
            <a:chOff x="858600" y="1555920"/>
            <a:chExt cx="7908840" cy="5015160"/>
          </a:xfrm>
        </p:grpSpPr>
        <p:sp>
          <p:nvSpPr>
            <p:cNvPr id="154" name=""/>
            <p:cNvSpPr/>
            <p:nvPr/>
          </p:nvSpPr>
          <p:spPr>
            <a:xfrm>
              <a:off x="3677400" y="3657600"/>
              <a:ext cx="1931760" cy="398880"/>
            </a:xfrm>
            <a:prstGeom prst="rect">
              <a:avLst/>
            </a:prstGeom>
            <a:noFill/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SIDL Compil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33840" y="1555920"/>
              <a:ext cx="2006280" cy="703800"/>
            </a:xfrm>
            <a:prstGeom prst="rect">
              <a:avLst/>
            </a:prstGeom>
            <a:noFill/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cc"/>
                  </a:solidFill>
                  <a:latin typeface="Arial"/>
                </a:rPr>
                <a:t>hypre</a:t>
              </a:r>
              <a:r>
                <a:rPr b="1" lang="en-US" sz="2000" spc="-1" strike="noStrike">
                  <a:solidFill>
                    <a:srgbClr val="0066cc"/>
                  </a:solidFill>
                  <a:latin typeface="Arial"/>
                </a:rPr>
                <a:t> Interface</a:t>
              </a:r>
              <a:br>
                <a:rPr sz="2000"/>
              </a:br>
              <a:r>
                <a:rPr b="1" lang="en-US" sz="2000" spc="-1" strike="noStrike">
                  <a:solidFill>
                    <a:srgbClr val="0066cc"/>
                  </a:solidFill>
                  <a:latin typeface="Arial"/>
                </a:rPr>
                <a:t>Descrip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00720" y="5486400"/>
              <a:ext cx="1453320" cy="703800"/>
            </a:xfrm>
            <a:prstGeom prst="rect">
              <a:avLst/>
            </a:prstGeom>
            <a:noFill/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Stu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Glue 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86720" y="5486400"/>
              <a:ext cx="1453320" cy="703800"/>
            </a:xfrm>
            <a:prstGeom prst="rect">
              <a:avLst/>
            </a:prstGeom>
            <a:noFill/>
            <a:ln w="2844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Skelet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Glue 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63160" y="3505320"/>
              <a:ext cx="1383120" cy="703800"/>
            </a:xfrm>
            <a:prstGeom prst="rect">
              <a:avLst/>
            </a:prstGeom>
            <a:noFill/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Caller</a:t>
              </a:r>
              <a:br>
                <a:rPr sz="2000"/>
              </a:b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53080" y="3505320"/>
              <a:ext cx="2057400" cy="703800"/>
            </a:xfrm>
            <a:prstGeom prst="rect">
              <a:avLst/>
            </a:prstGeom>
            <a:noFill/>
            <a:ln w="2844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c6d9c"/>
                  </a:solidFill>
                  <a:latin typeface="Arial"/>
                </a:rPr>
                <a:t>hypre </a:t>
              </a: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Library</a:t>
              </a:r>
              <a:br>
                <a:rPr sz="2000"/>
              </a:b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0" name=""/>
            <p:cNvCxnSpPr>
              <a:stCxn id="158" idx="3"/>
              <a:endCxn id="154" idx="1"/>
            </p:cNvCxnSpPr>
            <p:nvPr/>
          </p:nvCxnSpPr>
          <p:spPr>
            <a:xfrm>
              <a:off x="2576160" y="3870000"/>
              <a:ext cx="10724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4" idx="3"/>
              <a:endCxn id="159" idx="1"/>
            </p:cNvCxnSpPr>
            <p:nvPr/>
          </p:nvCxnSpPr>
          <p:spPr>
            <a:xfrm>
              <a:off x="5638320" y="3870000"/>
              <a:ext cx="90108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62" name=""/>
            <p:cNvCxnSpPr>
              <a:stCxn id="155" idx="2"/>
              <a:endCxn id="154" idx="0"/>
            </p:cNvCxnSpPr>
            <p:nvPr/>
          </p:nvCxnSpPr>
          <p:spPr>
            <a:xfrm>
              <a:off x="4636800" y="2300400"/>
              <a:ext cx="6840" cy="1343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3" name=""/>
            <p:cNvCxnSpPr>
              <a:stCxn id="154" idx="2"/>
              <a:endCxn id="156" idx="0"/>
            </p:cNvCxnSpPr>
            <p:nvPr/>
          </p:nvCxnSpPr>
          <p:spPr>
            <a:xfrm flipH="1">
              <a:off x="3426840" y="4096800"/>
              <a:ext cx="1216440" cy="1375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4" name=""/>
            <p:cNvCxnSpPr>
              <a:stCxn id="154" idx="2"/>
              <a:endCxn id="157" idx="0"/>
            </p:cNvCxnSpPr>
            <p:nvPr/>
          </p:nvCxnSpPr>
          <p:spPr>
            <a:xfrm>
              <a:off x="4642920" y="4096800"/>
              <a:ext cx="1071000" cy="1375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5" name=""/>
            <p:cNvCxnSpPr>
              <a:stCxn id="154" idx="0"/>
              <a:endCxn id="166" idx="3"/>
            </p:cNvCxnSpPr>
            <p:nvPr/>
          </p:nvCxnSpPr>
          <p:spPr>
            <a:xfrm flipV="1">
              <a:off x="4643280" y="2985480"/>
              <a:ext cx="2912400" cy="657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grpSp>
          <p:nvGrpSpPr>
            <p:cNvPr id="167" name=""/>
            <p:cNvGrpSpPr/>
            <p:nvPr/>
          </p:nvGrpSpPr>
          <p:grpSpPr>
            <a:xfrm>
              <a:off x="6340320" y="1600200"/>
              <a:ext cx="2427120" cy="1371600"/>
              <a:chOff x="6340320" y="1600200"/>
              <a:chExt cx="2427120" cy="1371600"/>
            </a:xfrm>
          </p:grpSpPr>
          <p:sp>
            <p:nvSpPr>
              <p:cNvPr id="166" name=""/>
              <p:cNvSpPr/>
              <p:nvPr/>
            </p:nvSpPr>
            <p:spPr>
              <a:xfrm>
                <a:off x="6340320" y="1600200"/>
                <a:ext cx="2427120" cy="1371600"/>
              </a:xfrm>
              <a:prstGeom prst="flowChartMagneticDisk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356160" y="2158920"/>
                <a:ext cx="2393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68686"/>
                    </a:solidFill>
                    <a:latin typeface="Arial"/>
                  </a:rPr>
                  <a:t>Language Mappings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868686"/>
                    </a:solidFill>
                    <a:latin typeface="Arial"/>
                  </a:rPr>
                  <a:t>Compiler Detail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655680" y="1600200"/>
                <a:ext cx="179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68686"/>
                    </a:solidFill>
                    <a:latin typeface="Arial"/>
                  </a:rPr>
                  <a:t>IDL Databas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858600" y="5867280"/>
              <a:ext cx="156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called by</a:t>
              </a:r>
              <a:br>
                <a:rPr sz="2000"/>
              </a:b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library u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56040" y="5867280"/>
              <a:ext cx="2059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wraps library</a:t>
              </a:r>
              <a:br>
                <a:rPr sz="2000"/>
              </a:b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implem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2209680" y="6019560"/>
              <a:ext cx="3924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77120" y="6019920"/>
              <a:ext cx="3124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14600" y="4267080"/>
              <a:ext cx="782640" cy="12193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90920" y="4191120"/>
              <a:ext cx="2427120" cy="1295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91120" y="5715000"/>
              <a:ext cx="782640" cy="14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6400800" y="4266720"/>
              <a:ext cx="782640" cy="12193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6T09:34:19Z</dcterms:created>
  <dc:creator>Scott Kohn</dc:creator>
  <dc:description/>
  <dc:language>en-US</dc:language>
  <cp:lastModifiedBy>SoftWindows</cp:lastModifiedBy>
  <cp:lastPrinted>1998-10-27T15:54:28Z</cp:lastPrinted>
  <dcterms:modified xsi:type="dcterms:W3CDTF">1999-05-12T22:18:50Z</dcterms:modified>
  <cp:revision>72</cp:revision>
  <dc:subject>CCA Interoperability and the CORBA IDL</dc:subject>
  <dc:title>CCA Interoperability</dc:title>
</cp:coreProperties>
</file>