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E4CA9-B44C-46BA-A8CF-EE6E41EBE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4B006-9B6C-42E1-833C-E82BF2474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02110-6A4F-4E69-9751-D8AB69A9A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A942B-9899-42A5-A0F3-5F702486B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E7FF8-D77C-432B-AEF5-82AD68064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E9555-4792-4CB7-81E7-29447F05D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AA717-AA24-46FB-A8E0-AFA82F34E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066D9-C629-490D-B067-88B58C453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929F1-9970-449F-8B5F-60BCABF01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AAFF3-DC81-4EA6-88E7-80DEF6D9D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056E1-5CB8-479C-AD6F-FB8CF17D0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8A1C6-F1FE-4D80-8552-4708631E7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C9DE3-479E-495E-BC73-097469AC0AEF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44964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10656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34920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Vertic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Horizont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uble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965680 w 7197480"/>
              <a:gd name="textAreaRight" fmla="*/ 4231800 w 7197480"/>
              <a:gd name="textAreaTop" fmla="*/ 1482840 h 3598560"/>
              <a:gd name="textAreaBottom" fmla="*/ 21157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5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8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16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2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32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148920 h 35985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21:57Z</dcterms:created>
  <dc:creator>tb121644</dc:creator>
  <dc:description/>
  <dc:language>en-US</dc:language>
  <cp:lastModifiedBy>tb121644</cp:lastModifiedBy>
  <dcterms:modified xsi:type="dcterms:W3CDTF">2005-05-25T11:22:14Z</dcterms:modified>
  <cp:revision>1</cp:revision>
  <dc:subject/>
  <dc:title>Slide 1</dc:title>
</cp:coreProperties>
</file>