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0E676-6CF4-4D44-BE29-FB9A8A40B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30CA0-6C4F-4530-9CB0-39C413E0F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34109-B7AF-49CE-916B-AEB181B4C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44A4E-3146-457B-8A95-B16C2F54C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75CB3-B7B9-46C6-BF37-6CFF79B92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2384F-CF3B-4561-9D9E-85AAA3C55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D4087-1C1F-4400-95BE-F484BD4E1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F92AD-D32F-42E3-96D5-CC21BA874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D4A3C-8EAD-492E-B528-C2FF49919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DDF3D-6B50-4518-A70E-FDE6DE442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A55CD-CC8B-47B4-A8C1-1D0676C8A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CB56D-F1C0-4CBA-A839-A0B70D577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63FB5-26F4-479E-8447-50C4CE85F8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66680" y="700200"/>
            <a:ext cx="7391520" cy="5400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820800" y="189000"/>
            <a:ext cx="1008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ource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500120" y="380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32080" y="1260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ilter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752480" y="2286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424240" y="184320"/>
            <a:ext cx="1157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971800" y="388800"/>
            <a:ext cx="0" cy="525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624120" y="184320"/>
            <a:ext cx="1024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ar Char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038480" y="3808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391520" y="184320"/>
            <a:ext cx="1600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View Configuration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029440" y="380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534520" y="1949400"/>
            <a:ext cx="609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D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7695720" y="20574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00" y="7300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oad/Save Data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61840" y="990720"/>
            <a:ext cx="246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00" y="1174680"/>
            <a:ext cx="914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on Filters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1295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320" y="1568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ipeline Brows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46200" y="17524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6320" y="32446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bject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3429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6320" y="48448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62120" y="50292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76720" y="6400800"/>
            <a:ext cx="1143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preadshee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809880" y="5714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629400" y="6400800"/>
            <a:ext cx="1066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XY Plo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7010280" y="563832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3T18:26:05Z</dcterms:created>
  <dc:creator> Amy Squillacote</dc:creator>
  <dc:description/>
  <dc:language>en-US</dc:language>
  <cp:lastModifiedBy> Amy Squillacote</cp:lastModifiedBy>
  <dcterms:modified xsi:type="dcterms:W3CDTF">2007-08-23T18:58:56Z</dcterms:modified>
  <cp:revision>2</cp:revision>
  <dc:subject/>
  <dc:title>Slide 1</dc:title>
</cp:coreProperties>
</file>